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gif" ContentType="image/gif"/>
  <Override PartName="/ppt/media/image11.png" ContentType="image/png"/>
  <Override PartName="/ppt/media/image6.wmf" ContentType="image/x-wmf"/>
  <Override PartName="/ppt/media/image9.png" ContentType="image/png"/>
  <Override PartName="/ppt/media/image7.png" ContentType="image/png"/>
  <Override PartName="/ppt/media/image27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8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chimes.wav" ContentType="audio/x-wav"/>
  <Override PartName="/ppt/media/image22.png" ContentType="image/png"/>
  <Override PartName="/ppt/media/image23.png" ContentType="image/png"/>
  <Override PartName="/ppt/media/image20.gif" ContentType="image/gif"/>
  <Override PartName="/ppt/media/image21.gif" ContentType="image/gif"/>
  <Override PartName="/ppt/media/image19.gif" ContentType="image/gif"/>
  <Override PartName="/ppt/media/image24.png" ContentType="image/png"/>
  <Override PartName="/ppt/media/image17.png" ContentType="image/png"/>
  <Override PartName="/ppt/media/image16.gif" ContentType="image/gif"/>
  <Override PartName="/ppt/media/image1.wmf" ContentType="image/x-wmf"/>
  <Override PartName="/ppt/media/image18.png" ContentType="image/png"/>
  <Override PartName="/ppt/media/image15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D75D-6C4E-4186-B3A6-C9C9CC4CEC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9F10-1AE5-45BB-A727-A7F268489D0C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4FBD-541B-4E9A-BFB0-7083ED931385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93E2-E7CA-4458-A33F-411062D7C6B4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EE6-E984-4C3B-A42A-869C9CFE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A22-D33E-47C8-B7AA-FCBED50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8BD-06FC-4160-9C22-F8A6FD1F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05A-DABA-4231-93C8-70F44D81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1A36-8356-400F-BE58-5F2A41C2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BC20-1719-4DC5-AA78-2B95E564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8D75-B38E-445D-BB2F-45C4A26F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B5FF-579E-4FFA-B52D-3DFA017C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90AD-4171-44D2-BF17-80ED64BC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ED3F-F247-4FCB-A05C-7CCF99F3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FEE9-F42E-4A1D-A0C2-86CE2E7E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59D-2AE4-4E75-BC9F-17CA0D50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8647-900C-4C45-8E0F-3FDFA280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22D1-9081-477A-BDFB-260946FF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760B-95D3-4117-A1F8-FD6BD9E4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3994-4617-438C-8AE0-CC06D03D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50D0-0DD6-4959-9BAF-0DD4B415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326-92F0-4DB3-829E-E0080E3D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96C-8CCE-4D22-9AF1-F471EB97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55C-FFEE-4714-AA97-FD94D834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905-664A-4F9B-A8DB-5F53F96E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FDF-55BB-49AF-BC07-E9453B3F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D6B-A4CC-4B42-825C-13C753DE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C11-C787-46D2-8337-B2137D2D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67F6-818C-4AB5-8EF2-128BC7307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3880" y="63360"/>
              <a:ext cx="3636360" cy="6146640"/>
              <a:chOff x="5393880" y="63360"/>
              <a:chExt cx="3636360" cy="61466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0440" y="348480"/>
                <a:ext cx="2116800" cy="235728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6720" y="1972080"/>
                <a:ext cx="906480" cy="84276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1640" y="259380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8600" y="6768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8800" y="265824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6920" y="1247760"/>
                <a:ext cx="190440" cy="1422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4160" y="2948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000" cy="1030320"/>
            </a:xfrm>
            <a:custGeom>
              <a:avLst/>
              <a:gdLst>
                <a:gd name="textAreaLeft" fmla="*/ -360 w 513000"/>
                <a:gd name="textAreaRight" fmla="*/ 513000 w 51300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2000160" cy="2432160"/>
            </a:xfrm>
            <a:custGeom>
              <a:avLst/>
              <a:gdLst>
                <a:gd name="textAreaLeft" fmla="*/ 0 w 2000160"/>
                <a:gd name="textAreaRight" fmla="*/ 2000520 w 20001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2600" cy="728640"/>
            </a:xfrm>
            <a:custGeom>
              <a:avLst/>
              <a:gdLst>
                <a:gd name="textAreaLeft" fmla="*/ 0 w 1272600"/>
                <a:gd name="textAreaRight" fmla="*/ 1272960 w 127260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960" y="4532040"/>
              <a:ext cx="562320" cy="736560"/>
            </a:xfrm>
            <a:custGeom>
              <a:avLst/>
              <a:gdLst>
                <a:gd name="textAreaLeft" fmla="*/ 360 w 562320"/>
                <a:gd name="textAreaRight" fmla="*/ 563040 w 56232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864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0720" y="5195880"/>
              <a:ext cx="1760400" cy="166212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4400" y="1033200"/>
              <a:ext cx="1015920" cy="1262520"/>
              <a:chOff x="4154400" y="1033200"/>
              <a:chExt cx="101592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9480" y="1071000"/>
                <a:ext cx="285840" cy="379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408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444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720" y="269640"/>
              <a:ext cx="893880" cy="825840"/>
              <a:chOff x="5643720" y="269640"/>
              <a:chExt cx="89388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5320" y="764280"/>
                <a:ext cx="179280" cy="36216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920" y="444600"/>
                <a:ext cx="306360" cy="30096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960"/>
                  <a:gd name="textAreaBottom" fmla="*/ 301320 h 30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800" y="369360"/>
                <a:ext cx="319320" cy="15336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360"/>
                  <a:gd name="textAreaBottom" fmla="*/ 153360 h 153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840" y="5247000"/>
              <a:ext cx="1059480" cy="830520"/>
              <a:chOff x="969840" y="5247000"/>
              <a:chExt cx="105948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160" y="5510880"/>
                <a:ext cx="251280" cy="30060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22560"/>
                <a:ext cx="429840" cy="24876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200" y="5371560"/>
                <a:ext cx="449280" cy="12672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200" y="419400"/>
              <a:ext cx="1692000" cy="1146600"/>
              <a:chOff x="376200" y="419400"/>
              <a:chExt cx="16920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240" y="103788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4920" y="562680"/>
                <a:ext cx="608400" cy="44100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000" y="1076760"/>
                <a:ext cx="636120" cy="22464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17800" y="3711960"/>
              <a:ext cx="1156320" cy="1608120"/>
              <a:chOff x="7417800" y="3711960"/>
              <a:chExt cx="1156320" cy="16081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72520" y="4755960"/>
                <a:ext cx="355680" cy="530640"/>
              </a:xfrm>
              <a:custGeom>
                <a:avLst/>
                <a:gdLst>
                  <a:gd name="textAreaLeft" fmla="*/ 360 w 355680"/>
                  <a:gd name="textAreaRight" fmla="*/ 356400 w 35568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23240" y="4455360"/>
                <a:ext cx="608760" cy="441000"/>
              </a:xfrm>
              <a:custGeom>
                <a:avLst/>
                <a:gdLst>
                  <a:gd name="textAreaLeft" fmla="*/ -360 w 608760"/>
                  <a:gd name="textAreaRight" fmla="*/ 608760 w 60876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15800" y="3781080"/>
                <a:ext cx="636480" cy="22428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3560" y="3240"/>
              <a:ext cx="1369440" cy="140652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7920" y="160560"/>
              <a:ext cx="1081800" cy="941760"/>
            </a:xfrm>
            <a:custGeom>
              <a:avLst/>
              <a:gdLst>
                <a:gd name="textAreaLeft" fmla="*/ 0 w 1081800"/>
                <a:gd name="textAreaRight" fmla="*/ 1082160 w 1081800"/>
                <a:gd name="textAreaTop" fmla="*/ 360 h 941760"/>
                <a:gd name="textAreaBottom" fmla="*/ 942480 h 94176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2320" y="1361160"/>
              <a:ext cx="524160" cy="44100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304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700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1680" y="1964160"/>
              <a:ext cx="624240" cy="365184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360 h 3651840"/>
                <a:gd name="textAreaBottom" fmla="*/ 3652560 h 365184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6D2A-6AD6-4DAB-A109-47142BCC9A4E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6.wmf"/><Relationship Id="rId3" Type="http://schemas.openxmlformats.org/officeDocument/2006/relationships/image" Target="../media/image6.wmf"/><Relationship Id="rId4" Type="http://schemas.openxmlformats.org/officeDocument/2006/relationships/image" Target="../media/image2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9640" y="2046240"/>
            <a:ext cx="8109000" cy="226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«Раг1ул г1уц1и»   </a:t>
            </a:r>
            <a:br>
              <a:rPr sz="5400"/>
            </a:b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   улкаялде сапар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1944720" cy="1704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QUILLPEN"/>
          <p:cNvPicPr/>
          <p:nvPr/>
        </p:nvPicPr>
        <p:blipFill>
          <a:blip r:embed="rId2"/>
          <a:stretch/>
        </p:blipFill>
        <p:spPr>
          <a:xfrm>
            <a:off x="395280" y="4322880"/>
            <a:ext cx="1152360" cy="174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OOK1"/>
          <p:cNvPicPr/>
          <p:nvPr/>
        </p:nvPicPr>
        <p:blipFill>
          <a:blip r:embed="rId3"/>
          <a:stretch/>
        </p:blipFill>
        <p:spPr>
          <a:xfrm>
            <a:off x="1143000" y="5500800"/>
            <a:ext cx="1662120" cy="81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Училка"/>
          <p:cNvPicPr/>
          <p:nvPr/>
        </p:nvPicPr>
        <p:blipFill>
          <a:blip r:embed="rId4"/>
          <a:stretch/>
        </p:blipFill>
        <p:spPr>
          <a:xfrm>
            <a:off x="6429240" y="285840"/>
            <a:ext cx="2428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Овал 3"/>
          <p:cNvSpPr/>
          <p:nvPr/>
        </p:nvSpPr>
        <p:spPr>
          <a:xfrm>
            <a:off x="3786120" y="2571840"/>
            <a:ext cx="1928880" cy="1857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Picture 5" descr="на корабле"/>
          <p:cNvPicPr/>
          <p:nvPr/>
        </p:nvPicPr>
        <p:blipFill>
          <a:blip r:embed="rId1"/>
          <a:stretch/>
        </p:blipFill>
        <p:spPr>
          <a:xfrm>
            <a:off x="285840" y="357192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ship2"/>
          <p:cNvPicPr/>
          <p:nvPr/>
        </p:nvPicPr>
        <p:blipFill>
          <a:blip r:embed="rId2"/>
          <a:stretch/>
        </p:blipFill>
        <p:spPr>
          <a:xfrm flipH="1">
            <a:off x="7838640" y="1428840"/>
            <a:ext cx="1305000" cy="47772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Прямая соединительная линия 8"/>
          <p:cNvSpPr/>
          <p:nvPr/>
        </p:nvSpPr>
        <p:spPr>
          <a:xfrm>
            <a:off x="3714120" y="1000080"/>
            <a:ext cx="500040" cy="13572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 flipH="1">
            <a:off x="5000760" y="857160"/>
            <a:ext cx="357120" cy="15001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Прямая соединительная линия 10"/>
          <p:cNvSpPr/>
          <p:nvPr/>
        </p:nvSpPr>
        <p:spPr>
          <a:xfrm flipV="1">
            <a:off x="1857240" y="3499920"/>
            <a:ext cx="1785960" cy="14292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 flipH="1">
            <a:off x="5571720" y="1713960"/>
            <a:ext cx="1428840" cy="928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Прямая соединительная линия 12"/>
          <p:cNvSpPr/>
          <p:nvPr/>
        </p:nvSpPr>
        <p:spPr>
          <a:xfrm flipH="1">
            <a:off x="5929200" y="3071160"/>
            <a:ext cx="1857600" cy="214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Прямая соединительная линия 13"/>
          <p:cNvSpPr/>
          <p:nvPr/>
        </p:nvSpPr>
        <p:spPr>
          <a:xfrm flipH="1" flipV="1">
            <a:off x="5929200" y="4000320"/>
            <a:ext cx="1500480" cy="5000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Прямая соединительная линия 15"/>
          <p:cNvSpPr/>
          <p:nvPr/>
        </p:nvSpPr>
        <p:spPr>
          <a:xfrm flipH="1">
            <a:off x="4000680" y="4572000"/>
            <a:ext cx="452160" cy="107172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Прямая соединительная линия 16"/>
          <p:cNvSpPr/>
          <p:nvPr/>
        </p:nvSpPr>
        <p:spPr>
          <a:xfrm flipV="1">
            <a:off x="2571840" y="4071960"/>
            <a:ext cx="1143000" cy="642960"/>
          </a:xfrm>
          <a:prstGeom prst="line">
            <a:avLst/>
          </a:prstGeom>
          <a:ln w="76320">
            <a:solidFill>
              <a:srgbClr val="d5e0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Прямая соединительная линия 17"/>
          <p:cNvSpPr/>
          <p:nvPr/>
        </p:nvSpPr>
        <p:spPr>
          <a:xfrm>
            <a:off x="5428440" y="4429080"/>
            <a:ext cx="785880" cy="1071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Прямая соединительная линия 32"/>
          <p:cNvSpPr/>
          <p:nvPr/>
        </p:nvSpPr>
        <p:spPr>
          <a:xfrm>
            <a:off x="2571840" y="2000160"/>
            <a:ext cx="1071360" cy="642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4" name="35_SHum_mor_-_35_SHum_morya.mp3" descr=""/>
          <p:cNvPicPr/>
          <p:nvPr/>
        </p:nvPicPr>
        <p:blipFill>
          <a:blip r:embed="rId3"/>
          <a:stretch/>
        </p:blipFill>
        <p:spPr>
          <a:xfrm>
            <a:off x="7839000" y="56721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3.05556E-006 -6.75301E-007 C -0.1507 -0.00162 -0.30156 -0.00301 -0.45226 -0.00601 C -0.5757 -0.01179 -0.69913 -0.00809 -0.8224 -0.00809 E">
                                      <p:cBhvr>
                                        <p:cTn id="452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6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Стрелка вправо 3"/>
          <p:cNvSpPr/>
          <p:nvPr/>
        </p:nvSpPr>
        <p:spPr>
          <a:xfrm rot="10800000">
            <a:off x="1714320" y="5572080"/>
            <a:ext cx="1571400" cy="9288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Стрелка вниз 4"/>
          <p:cNvSpPr/>
          <p:nvPr/>
        </p:nvSpPr>
        <p:spPr>
          <a:xfrm>
            <a:off x="7929720" y="357192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Стрелка вправо 5"/>
          <p:cNvSpPr/>
          <p:nvPr/>
        </p:nvSpPr>
        <p:spPr>
          <a:xfrm>
            <a:off x="292896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Стрелка вправо 9"/>
          <p:cNvSpPr/>
          <p:nvPr/>
        </p:nvSpPr>
        <p:spPr>
          <a:xfrm rot="10800000">
            <a:off x="3643200" y="5571720"/>
            <a:ext cx="1500480" cy="8571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Стрелка вправо 11"/>
          <p:cNvSpPr/>
          <p:nvPr/>
        </p:nvSpPr>
        <p:spPr>
          <a:xfrm>
            <a:off x="4857840" y="285840"/>
            <a:ext cx="1500120" cy="8571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Стрелка вправо 12"/>
          <p:cNvSpPr/>
          <p:nvPr/>
        </p:nvSpPr>
        <p:spPr>
          <a:xfrm>
            <a:off x="92880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Стрелка вниз 13"/>
          <p:cNvSpPr/>
          <p:nvPr/>
        </p:nvSpPr>
        <p:spPr>
          <a:xfrm rot="5400000">
            <a:off x="7643880" y="5214960"/>
            <a:ext cx="92880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Стрелка вниз 14"/>
          <p:cNvSpPr/>
          <p:nvPr/>
        </p:nvSpPr>
        <p:spPr>
          <a:xfrm>
            <a:off x="7929720" y="157176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Стрелка вниз 15"/>
          <p:cNvSpPr/>
          <p:nvPr/>
        </p:nvSpPr>
        <p:spPr>
          <a:xfrm rot="5400000">
            <a:off x="5786280" y="5214960"/>
            <a:ext cx="928440" cy="15001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Стрелка вправо 16"/>
          <p:cNvSpPr/>
          <p:nvPr/>
        </p:nvSpPr>
        <p:spPr>
          <a:xfrm>
            <a:off x="6929280" y="357120"/>
            <a:ext cx="1500480" cy="785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Стрелка вправо 17"/>
          <p:cNvSpPr/>
          <p:nvPr/>
        </p:nvSpPr>
        <p:spPr>
          <a:xfrm rot="16200000">
            <a:off x="249840" y="5107680"/>
            <a:ext cx="1214640" cy="857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Стрелка вправо 18"/>
          <p:cNvSpPr/>
          <p:nvPr/>
        </p:nvSpPr>
        <p:spPr>
          <a:xfrm rot="16200000">
            <a:off x="285840" y="3357360"/>
            <a:ext cx="114300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Стрелка вправо 19"/>
          <p:cNvSpPr/>
          <p:nvPr/>
        </p:nvSpPr>
        <p:spPr>
          <a:xfrm rot="16200000">
            <a:off x="329400" y="171540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Стрелка вправо 20"/>
          <p:cNvSpPr/>
          <p:nvPr/>
        </p:nvSpPr>
        <p:spPr>
          <a:xfrm rot="7260000">
            <a:off x="3111840" y="4137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Стрелка вправо 21"/>
          <p:cNvSpPr/>
          <p:nvPr/>
        </p:nvSpPr>
        <p:spPr>
          <a:xfrm rot="10629000">
            <a:off x="2450880" y="317124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Стрелка вправо 23"/>
          <p:cNvSpPr/>
          <p:nvPr/>
        </p:nvSpPr>
        <p:spPr>
          <a:xfrm rot="14487000">
            <a:off x="3101040" y="220428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Стрелка вправо 24"/>
          <p:cNvSpPr/>
          <p:nvPr/>
        </p:nvSpPr>
        <p:spPr>
          <a:xfrm rot="20284800">
            <a:off x="5059440" y="268596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Стрелка вправо 25"/>
          <p:cNvSpPr/>
          <p:nvPr/>
        </p:nvSpPr>
        <p:spPr>
          <a:xfrm rot="1240200">
            <a:off x="5126040" y="367812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Стрелка вправо 26"/>
          <p:cNvSpPr/>
          <p:nvPr/>
        </p:nvSpPr>
        <p:spPr>
          <a:xfrm rot="17496000">
            <a:off x="4273920" y="2040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Стрелка вправо 27"/>
          <p:cNvSpPr/>
          <p:nvPr/>
        </p:nvSpPr>
        <p:spPr>
          <a:xfrm rot="5623800">
            <a:off x="4127760" y="429660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Стрелка вправо 8"/>
          <p:cNvSpPr/>
          <p:nvPr/>
        </p:nvSpPr>
        <p:spPr>
          <a:xfrm rot="5400000">
            <a:off x="178200" y="4640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Стрелка вправо 9"/>
          <p:cNvSpPr/>
          <p:nvPr/>
        </p:nvSpPr>
        <p:spPr>
          <a:xfrm rot="5400000">
            <a:off x="249480" y="210744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Стрелка вправо 10"/>
          <p:cNvSpPr/>
          <p:nvPr/>
        </p:nvSpPr>
        <p:spPr>
          <a:xfrm rot="5400000">
            <a:off x="321120" y="3750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Стрелка вправо 11"/>
          <p:cNvSpPr/>
          <p:nvPr/>
        </p:nvSpPr>
        <p:spPr>
          <a:xfrm rot="5400000">
            <a:off x="392400" y="54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Стрелка вправо 13"/>
          <p:cNvSpPr/>
          <p:nvPr/>
        </p:nvSpPr>
        <p:spPr>
          <a:xfrm>
            <a:off x="2000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Стрелка вправо 14"/>
          <p:cNvSpPr/>
          <p:nvPr/>
        </p:nvSpPr>
        <p:spPr>
          <a:xfrm>
            <a:off x="371484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Стрелка вправо 15"/>
          <p:cNvSpPr/>
          <p:nvPr/>
        </p:nvSpPr>
        <p:spPr>
          <a:xfrm>
            <a:off x="5429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Стрелка вправо 16"/>
          <p:cNvSpPr/>
          <p:nvPr/>
        </p:nvSpPr>
        <p:spPr>
          <a:xfrm>
            <a:off x="72867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Стрелка вправо 17"/>
          <p:cNvSpPr/>
          <p:nvPr/>
        </p:nvSpPr>
        <p:spPr>
          <a:xfrm rot="16200000">
            <a:off x="7708320" y="4485240"/>
            <a:ext cx="1285560" cy="9284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Стрелка вправо 19"/>
          <p:cNvSpPr/>
          <p:nvPr/>
        </p:nvSpPr>
        <p:spPr>
          <a:xfrm rot="16200000">
            <a:off x="7607880" y="289332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Стрелка вправо 20"/>
          <p:cNvSpPr/>
          <p:nvPr/>
        </p:nvSpPr>
        <p:spPr>
          <a:xfrm rot="16200000">
            <a:off x="7679520" y="1464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Стрелка вправо 21"/>
          <p:cNvSpPr/>
          <p:nvPr/>
        </p:nvSpPr>
        <p:spPr>
          <a:xfrm rot="10800000">
            <a:off x="7429320" y="21420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Стрелка вправо 22"/>
          <p:cNvSpPr/>
          <p:nvPr/>
        </p:nvSpPr>
        <p:spPr>
          <a:xfrm rot="10800000">
            <a:off x="578628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Стрелка вправо 23"/>
          <p:cNvSpPr/>
          <p:nvPr/>
        </p:nvSpPr>
        <p:spPr>
          <a:xfrm rot="10800000">
            <a:off x="414324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Стрелка вправо 24"/>
          <p:cNvSpPr/>
          <p:nvPr/>
        </p:nvSpPr>
        <p:spPr>
          <a:xfrm rot="10800000">
            <a:off x="200016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Нижний колонтитул 2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Стрелка вправо 40"/>
          <p:cNvSpPr/>
          <p:nvPr/>
        </p:nvSpPr>
        <p:spPr>
          <a:xfrm rot="14493000">
            <a:off x="3572640" y="196452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Стрелка вправо 41"/>
          <p:cNvSpPr/>
          <p:nvPr/>
        </p:nvSpPr>
        <p:spPr>
          <a:xfrm rot="3006600">
            <a:off x="4912200" y="40406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Стрелка вправо 42"/>
          <p:cNvSpPr/>
          <p:nvPr/>
        </p:nvSpPr>
        <p:spPr>
          <a:xfrm rot="11506800">
            <a:off x="2866680" y="27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Стрелка вправо 43"/>
          <p:cNvSpPr/>
          <p:nvPr/>
        </p:nvSpPr>
        <p:spPr>
          <a:xfrm rot="8894400">
            <a:off x="3004920" y="369684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Стрелка вправо 44"/>
          <p:cNvSpPr/>
          <p:nvPr/>
        </p:nvSpPr>
        <p:spPr>
          <a:xfrm rot="21213000">
            <a:off x="5405040" y="29988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Стрелка вправо 45"/>
          <p:cNvSpPr/>
          <p:nvPr/>
        </p:nvSpPr>
        <p:spPr>
          <a:xfrm rot="6238800">
            <a:off x="3819960" y="42728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Стрелка вправо 46"/>
          <p:cNvSpPr/>
          <p:nvPr/>
        </p:nvSpPr>
        <p:spPr>
          <a:xfrm rot="18748200">
            <a:off x="4848840" y="210888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4-конечная звезда 10"/>
          <p:cNvSpPr/>
          <p:nvPr/>
        </p:nvSpPr>
        <p:spPr>
          <a:xfrm>
            <a:off x="1428840" y="35712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1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4-конечная звезда 12"/>
          <p:cNvSpPr/>
          <p:nvPr/>
        </p:nvSpPr>
        <p:spPr>
          <a:xfrm rot="19151400">
            <a:off x="1374480" y="45828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4062"/>
          </a:solidFill>
          <a:ln w="25560">
            <a:solidFill>
              <a:srgbClr val="1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5" name="Рисунок 5" descr="анкруг2.gif"/>
          <p:cNvPicPr/>
          <p:nvPr/>
        </p:nvPicPr>
        <p:blipFill>
          <a:blip r:embed="rId1"/>
          <a:stretch/>
        </p:blipFill>
        <p:spPr>
          <a:xfrm>
            <a:off x="3929040" y="2571840"/>
            <a:ext cx="1314360" cy="13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mph" presetID="8">
                                  <p:stCondLst>
                                    <p:cond delay="9000"/>
                                  </p:stCondLst>
                                  <p:childTnLst>
                                    <p:animRot by="21600000">
                                      <p:cBhvr>
                                        <p:cTn id="715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18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ivan"/>
          <p:cNvPicPr/>
          <p:nvPr/>
        </p:nvPicPr>
        <p:blipFill>
          <a:blip r:embed="rId1"/>
          <a:stretch/>
        </p:blipFill>
        <p:spPr>
          <a:xfrm>
            <a:off x="4394160" y="1214280"/>
            <a:ext cx="4606920" cy="5786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"/>
          <p:cNvPicPr/>
          <p:nvPr/>
        </p:nvPicPr>
        <p:blipFill>
          <a:blip r:embed="rId2"/>
          <a:stretch/>
        </p:blipFill>
        <p:spPr>
          <a:xfrm rot="4365000">
            <a:off x="1434960" y="1325520"/>
            <a:ext cx="1460520" cy="1838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 rot="4365000">
            <a:off x="1434960" y="2611440"/>
            <a:ext cx="1460520" cy="1838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4"/>
          <a:stretch/>
        </p:blipFill>
        <p:spPr>
          <a:xfrm rot="4365000">
            <a:off x="1577880" y="3968640"/>
            <a:ext cx="1460520" cy="1838160"/>
          </a:xfrm>
          <a:prstGeom prst="rect">
            <a:avLst/>
          </a:prstGeom>
          <a:ln w="0">
            <a:noFill/>
          </a:ln>
        </p:spPr>
      </p:pic>
      <p:sp>
        <p:nvSpPr>
          <p:cNvPr id="371" name="Лента лицом вверх 6"/>
          <p:cNvSpPr/>
          <p:nvPr/>
        </p:nvSpPr>
        <p:spPr>
          <a:xfrm>
            <a:off x="0" y="214200"/>
            <a:ext cx="8929800" cy="1071720"/>
          </a:xfrm>
          <a:custGeom>
            <a:avLst/>
            <a:gdLst>
              <a:gd name="textAreaLeft" fmla="*/ 1116000 w 8929800"/>
              <a:gd name="textAreaRight" fmla="*/ 7813800 w 8929800"/>
              <a:gd name="textAreaTop" fmla="*/ 0 h 1071720"/>
              <a:gd name="textAreaBottom" fmla="*/ 893160 h 107172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bae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ьибилалъул балъголъаби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39640" y="549360"/>
          <a:ext cx="8429760" cy="469728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14029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1.        </a:t>
                      </a:r>
                      <a:r>
                        <a:rPr b="1" lang="ru-RU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Кьибил ккола…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)    Раг1ул бищун к1вар ц1ик1к1араб бут1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)    Каламалъул бут1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)    Предложениялъул бут1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2.  </a:t>
                      </a:r>
                      <a:r>
                        <a:rPr b="1" lang="ru-RU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Маг1на г1агарал раг1абазул г1аммаб бут1а ккола…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)    Асл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)     Ахи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)     Кьиби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3.    </a:t>
                      </a:r>
                      <a:r>
                        <a:rPr b="1" lang="ru-RU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Цого кьибилалъул раг1аби…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)    Цо каламалъул бут1алъун ккола 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)    Бат1и-бат1иял суалазе жаваблъун рач1уна, бат1и-бат1иял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аламалъул бут1абилъун ккол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)    Цого суалазе жаваблъун рач1ун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"/>
          <p:cNvPicPr/>
          <p:nvPr/>
        </p:nvPicPr>
        <p:blipFill>
          <a:blip r:embed="rId2"/>
          <a:stretch/>
        </p:blipFill>
        <p:spPr>
          <a:xfrm rot="4365000">
            <a:off x="7319520" y="1110960"/>
            <a:ext cx="1460520" cy="1838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5293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6600ff"/>
                </a:solidFill>
                <a:latin typeface="Verdana"/>
              </a:rPr>
              <a:t>Бит1араб жаваб бихьизабе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76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920880" y="1189080"/>
            <a:ext cx="3870360" cy="493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ая соединительная линия 7" descr=""/>
          <p:cNvPicPr/>
          <p:nvPr/>
        </p:nvPicPr>
        <p:blipFill>
          <a:blip r:embed="rId4"/>
          <a:stretch/>
        </p:blipFill>
        <p:spPr>
          <a:xfrm>
            <a:off x="853920" y="3333600"/>
            <a:ext cx="1352880" cy="4932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ая соединительная линия 9" descr=""/>
          <p:cNvPicPr/>
          <p:nvPr/>
        </p:nvPicPr>
        <p:blipFill>
          <a:blip r:embed="rId5"/>
          <a:stretch/>
        </p:blipFill>
        <p:spPr>
          <a:xfrm>
            <a:off x="1036800" y="4475160"/>
            <a:ext cx="7735680" cy="604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4">
            <a:hlinkClick r:id="rId6" action="ppaction://hlinksldjump"/>
          </p:cNvPr>
          <p:cNvSpPr/>
          <p:nvPr/>
        </p:nvSpPr>
        <p:spPr>
          <a:xfrm>
            <a:off x="7864560" y="4719600"/>
            <a:ext cx="904680" cy="335160"/>
          </a:xfrm>
          <a:custGeom>
            <a:avLst/>
            <a:gdLst>
              <a:gd name="textAreaLeft" fmla="*/ 94320 w 904680"/>
              <a:gd name="textAreaRight" fmla="*/ 634680 w 904680"/>
              <a:gd name="textAreaTop" fmla="*/ 44640 h 335160"/>
              <a:gd name="textAreaBottom" fmla="*/ 290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4503" hR="21600" stAng="10800000" swAng="-5400000"/>
                <a:lnTo>
                  <a:pt x="12900" y="21600"/>
                </a:lnTo>
                <a:arcTo wR="4503" hR="21600" stAng="5400000" swAng="-1831373"/>
                <a:lnTo>
                  <a:pt x="21342" y="7200"/>
                </a:lnTo>
                <a:lnTo>
                  <a:pt x="13204" y="0"/>
                </a:lnTo>
                <a:lnTo>
                  <a:pt x="4549" y="7200"/>
                </a:lnTo>
                <a:lnTo>
                  <a:pt x="8747" y="7200"/>
                </a:lnTo>
                <a:arcTo wR="4503" hR="21600" stAng="3568627" swAng="134259"/>
                <a:lnTo>
                  <a:pt x="8701" y="7802"/>
                </a:lnTo>
                <a:arcTo wR="4503" hR="21600" stAng="7097114" swAng="3702886"/>
                <a:close/>
              </a:path>
              <a:path fill="darkenLess" w="21600" h="21600">
                <a:moveTo>
                  <a:pt x="0" y="0"/>
                </a:moveTo>
                <a:arcTo wR="4503" hR="21600" stAng="10800000" swAng="-5400000"/>
                <a:lnTo>
                  <a:pt x="12900" y="21600"/>
                </a:lnTo>
                <a:arcTo wR="4503" hR="21600" stAng="5400000" swAng="1697114"/>
                <a:lnTo>
                  <a:pt x="8701" y="7802"/>
                </a:lnTo>
                <a:arcTo wR="4503" hR="21600" stAng="7097114" swAng="3702886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3"/>
          <p:cNvSpPr/>
          <p:nvPr/>
        </p:nvSpPr>
        <p:spPr>
          <a:xfrm>
            <a:off x="900000" y="404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7030a0"/>
                </a:solidFill>
                <a:uFillTx/>
                <a:latin typeface="Tahoma"/>
              </a:rPr>
              <a:t>Дуего къимат кье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1835280" y="1484280"/>
            <a:ext cx="70578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Дида дарсил тема бич1ч1ана, х1алт1улъ цониги гъалат1 ккеч1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885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ида дарсил тема бич1ч1ана, амма 1-2 гъалат1 ккана х1алт1улъ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0060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06885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ида дарсил тема бич1ч1ич1о, х1алт1улъ г1емерал гъалат1алги ккан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2" name="Picture 6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119240" cy="108720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8"/>
          <p:cNvSpPr/>
          <p:nvPr/>
        </p:nvSpPr>
        <p:spPr>
          <a:xfrm>
            <a:off x="285840" y="2928960"/>
            <a:ext cx="1143000" cy="10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Прямоугольник 10"/>
          <p:cNvSpPr/>
          <p:nvPr/>
        </p:nvSpPr>
        <p:spPr>
          <a:xfrm>
            <a:off x="285840" y="4572000"/>
            <a:ext cx="1143000" cy="1071720"/>
          </a:xfrm>
          <a:prstGeom prst="rect">
            <a:avLst/>
          </a:prstGeom>
          <a:solidFill>
            <a:srgbClr val="0033cc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428760" y="135720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affff"/>
                </a:solidFill>
                <a:latin typeface="Verdana"/>
              </a:rPr>
              <a:t>5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TextBox 12"/>
          <p:cNvSpPr/>
          <p:nvPr/>
        </p:nvSpPr>
        <p:spPr>
          <a:xfrm>
            <a:off x="428760" y="289260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affff"/>
                </a:solidFill>
                <a:latin typeface="Verdana"/>
              </a:rPr>
              <a:t>4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428760" y="460692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affff"/>
                </a:solidFill>
                <a:latin typeface="Verdana"/>
              </a:rPr>
              <a:t>3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PE03166_"/>
          <p:cNvPicPr/>
          <p:nvPr/>
        </p:nvPicPr>
        <p:blipFill>
          <a:blip r:embed="rId2"/>
          <a:stretch/>
        </p:blipFill>
        <p:spPr>
          <a:xfrm>
            <a:off x="5929200" y="3668760"/>
            <a:ext cx="2346480" cy="2475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3"/>
          <a:stretch/>
        </p:blipFill>
        <p:spPr>
          <a:xfrm rot="4626000">
            <a:off x="6798960" y="793440"/>
            <a:ext cx="1752840" cy="2206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AG00319_"/>
          <p:cNvPicPr/>
          <p:nvPr/>
        </p:nvPicPr>
        <p:blipFill>
          <a:blip r:embed="rId4"/>
          <a:stretch/>
        </p:blipFill>
        <p:spPr>
          <a:xfrm>
            <a:off x="1636560" y="2714760"/>
            <a:ext cx="3149640" cy="29588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6000" y="999720"/>
            <a:ext cx="65293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Verdana"/>
              </a:rPr>
              <a:t>Х1алч1ахъадал!</a:t>
            </a:r>
            <a:br>
              <a:rPr sz="4000"/>
            </a:br>
            <a:r>
              <a:rPr b="1" i="1" lang="ru-RU" sz="4000" spc="-1" strike="noStrike">
                <a:solidFill>
                  <a:srgbClr val="6600ff"/>
                </a:solidFill>
                <a:latin typeface="Verdana"/>
              </a:rPr>
              <a:t> Нуж лъик1 х1алт1ана!!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моя защита на 1 категорию\мои школьные фото\1 сегнтября.jpg"/>
          <p:cNvPicPr/>
          <p:nvPr/>
        </p:nvPicPr>
        <p:blipFill>
          <a:blip r:embed="rId1"/>
          <a:stretch/>
        </p:blipFill>
        <p:spPr>
          <a:xfrm>
            <a:off x="6302520" y="2921040"/>
            <a:ext cx="2841480" cy="3500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2"/>
          <a:stretch/>
        </p:blipFill>
        <p:spPr>
          <a:xfrm rot="2097000">
            <a:off x="678960" y="-461880"/>
            <a:ext cx="1351080" cy="1701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512640" y="1093320"/>
            <a:ext cx="88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Раг1аби г1уц1ун рук1уна гьал бут1абаздасан . .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85840" y="3420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Раг1ул ахир ккола предложениялъулъ…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12640" y="5053320"/>
            <a:ext cx="2702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82"/>
                </a:solidFill>
                <a:latin typeface="Verdana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Аслу ккола . . . 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34800" y="2475360"/>
            <a:ext cx="7388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кьибилалде т1адеги жубан, ц1иял раг1аби лъугьинарулел яги раг1ул форма хисизабулеб бут1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785880" y="5447160"/>
            <a:ext cx="5786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ахир нахъе рехун, гъоркь хут1улеб раг1ул маг1наялъе кьуч1лъун бугеб бут1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76040" y="4100040"/>
            <a:ext cx="70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маг1наялъул рахъалъ раг1аби цоцалъ рекъезе, раг1ул аслуялде т1аде жубалеб хисарулеб бут1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143000" y="378756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1507680"/>
            <a:ext cx="5151600" cy="50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аслу, ахир, кьибил, суффикс 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312840" y="215280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Суффикс ккола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Скругленный прямоугольник 8"/>
          <p:cNvSpPr/>
          <p:nvPr/>
        </p:nvSpPr>
        <p:spPr>
          <a:xfrm>
            <a:off x="2214720" y="2143080"/>
            <a:ext cx="4214520" cy="13572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РТАТГ1ТУТЛ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УКЬУИУБУИУЛ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Лента лицом вверх 11"/>
          <p:cNvSpPr/>
          <p:nvPr/>
        </p:nvSpPr>
        <p:spPr>
          <a:xfrm>
            <a:off x="1428840" y="214200"/>
            <a:ext cx="7500960" cy="1428840"/>
          </a:xfrm>
          <a:custGeom>
            <a:avLst/>
            <a:gdLst>
              <a:gd name="textAreaLeft" fmla="*/ 937440 w 7500960"/>
              <a:gd name="textAreaRight" fmla="*/ 6563520 w 7500960"/>
              <a:gd name="textAreaTop" fmla="*/ 0 h 1428840"/>
              <a:gd name="textAreaBottom" fmla="*/ 1190880 h 142884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bae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г1ул г1уц1и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20708" t="33073" r="31933" b="14947"/>
          <a:stretch/>
        </p:blipFill>
        <p:spPr>
          <a:xfrm rot="20671200">
            <a:off x="-66600" y="169560"/>
            <a:ext cx="2316240" cy="196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дискуссия"/>
          <p:cNvPicPr/>
          <p:nvPr/>
        </p:nvPicPr>
        <p:blipFill>
          <a:blip r:embed="rId2"/>
          <a:stretch/>
        </p:blipFill>
        <p:spPr>
          <a:xfrm>
            <a:off x="7358040" y="1714680"/>
            <a:ext cx="1285920" cy="2082600"/>
          </a:xfrm>
          <a:prstGeom prst="rect">
            <a:avLst/>
          </a:prstGeom>
          <a:ln w="0">
            <a:noFill/>
          </a:ln>
        </p:spPr>
      </p:pic>
      <p:sp>
        <p:nvSpPr>
          <p:cNvPr id="194" name="Скругленный прямоугольник 9"/>
          <p:cNvSpPr/>
          <p:nvPr/>
        </p:nvSpPr>
        <p:spPr>
          <a:xfrm>
            <a:off x="2395440" y="2308320"/>
            <a:ext cx="3929040" cy="1071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аг1ул кьиби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5" name="Полилиния 15"/>
          <p:cNvGrpSpPr/>
          <p:nvPr/>
        </p:nvGrpSpPr>
        <p:grpSpPr>
          <a:xfrm>
            <a:off x="2719440" y="3114720"/>
            <a:ext cx="4881600" cy="3432240"/>
            <a:chOff x="2719440" y="3114720"/>
            <a:chExt cx="4881600" cy="3432240"/>
          </a:xfrm>
        </p:grpSpPr>
        <p:pic>
          <p:nvPicPr>
            <p:cNvPr id="196" name="Полилиния 15" descr=""/>
            <p:cNvPicPr/>
            <p:nvPr/>
          </p:nvPicPr>
          <p:blipFill>
            <a:blip r:embed="rId3"/>
            <a:stretch/>
          </p:blipFill>
          <p:spPr>
            <a:xfrm>
              <a:off x="2719440" y="3114720"/>
              <a:ext cx="48816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770200" y="3164040"/>
              <a:ext cx="4791240" cy="33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8" name="Группа 22"/>
          <p:cNvGrpSpPr/>
          <p:nvPr/>
        </p:nvGrpSpPr>
        <p:grpSpPr>
          <a:xfrm>
            <a:off x="138240" y="4001040"/>
            <a:ext cx="2101680" cy="2455200"/>
            <a:chOff x="138240" y="4001040"/>
            <a:chExt cx="2101680" cy="2455200"/>
          </a:xfrm>
        </p:grpSpPr>
        <p:pic>
          <p:nvPicPr>
            <p:cNvPr id="199" name="Picture 32" descr="F:\моя защита на 1 категорию\АНИМАЦИЯ\Анимация\196.gif"/>
            <p:cNvPicPr/>
            <p:nvPr/>
          </p:nvPicPr>
          <p:blipFill>
            <a:blip r:embed="rId4"/>
            <a:stretch/>
          </p:blipFill>
          <p:spPr>
            <a:xfrm rot="21111000">
              <a:off x="260280" y="4123080"/>
              <a:ext cx="1857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Скругленный прямоугольник 18"/>
            <p:cNvSpPr/>
            <p:nvPr/>
          </p:nvSpPr>
          <p:spPr>
            <a:xfrm rot="21111000">
              <a:off x="412560" y="5903280"/>
              <a:ext cx="178596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     </a:t>
              </a: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АСЛУ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01" name="Группа 23"/>
          <p:cNvGrpSpPr/>
          <p:nvPr/>
        </p:nvGrpSpPr>
        <p:grpSpPr>
          <a:xfrm>
            <a:off x="2428920" y="3714840"/>
            <a:ext cx="1785960" cy="2143080"/>
            <a:chOff x="2428920" y="3714840"/>
            <a:chExt cx="1785960" cy="2143080"/>
          </a:xfrm>
        </p:grpSpPr>
        <p:pic>
          <p:nvPicPr>
            <p:cNvPr id="202" name="Picture 32" descr="F:\моя защита на 1 категорию\АНИМАЦИЯ\Анимация\196.gif"/>
            <p:cNvPicPr/>
            <p:nvPr/>
          </p:nvPicPr>
          <p:blipFill>
            <a:blip r:embed="rId5"/>
            <a:stretch/>
          </p:blipFill>
          <p:spPr>
            <a:xfrm>
              <a:off x="2428920" y="3714840"/>
              <a:ext cx="17859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Скругленный прямоугольник 19"/>
            <p:cNvSpPr/>
            <p:nvPr/>
          </p:nvSpPr>
          <p:spPr>
            <a:xfrm>
              <a:off x="2500200" y="5429520"/>
              <a:ext cx="157176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КЬИБИЛ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04" name="Группа 24"/>
          <p:cNvGrpSpPr/>
          <p:nvPr/>
        </p:nvGrpSpPr>
        <p:grpSpPr>
          <a:xfrm>
            <a:off x="4913640" y="4071960"/>
            <a:ext cx="2008080" cy="2342880"/>
            <a:chOff x="4913640" y="4071960"/>
            <a:chExt cx="2008080" cy="2342880"/>
          </a:xfrm>
        </p:grpSpPr>
        <p:pic>
          <p:nvPicPr>
            <p:cNvPr id="205" name="Picture 32" descr="F:\моя защита на 1 категорию\АНИМАЦИЯ\Анимация\196.gif"/>
            <p:cNvPicPr/>
            <p:nvPr/>
          </p:nvPicPr>
          <p:blipFill>
            <a:blip r:embed="rId6"/>
            <a:stretch/>
          </p:blipFill>
          <p:spPr>
            <a:xfrm rot="459600">
              <a:off x="5024520" y="4182840"/>
              <a:ext cx="17859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Скругленный прямоугольник 20"/>
            <p:cNvSpPr/>
            <p:nvPr/>
          </p:nvSpPr>
          <p:spPr>
            <a:xfrm rot="459600">
              <a:off x="5028840" y="5888160"/>
              <a:ext cx="150048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СУФФИКС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07" name="Группа 25"/>
          <p:cNvGrpSpPr/>
          <p:nvPr/>
        </p:nvGrpSpPr>
        <p:grpSpPr>
          <a:xfrm>
            <a:off x="6986160" y="4503960"/>
            <a:ext cx="2030040" cy="2278800"/>
            <a:chOff x="6986160" y="4503960"/>
            <a:chExt cx="2030040" cy="2278800"/>
          </a:xfrm>
        </p:grpSpPr>
        <p:pic>
          <p:nvPicPr>
            <p:cNvPr id="208" name="Picture 32" descr="F:\моя защита на 1 категорию\АНИМАЦИЯ\Анимация\196.gif"/>
            <p:cNvPicPr/>
            <p:nvPr/>
          </p:nvPicPr>
          <p:blipFill>
            <a:blip r:embed="rId7"/>
            <a:stretch/>
          </p:blipFill>
          <p:spPr>
            <a:xfrm rot="287400">
              <a:off x="7158240" y="4575240"/>
              <a:ext cx="178632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Скругленный прямоугольник 21"/>
            <p:cNvSpPr/>
            <p:nvPr/>
          </p:nvSpPr>
          <p:spPr>
            <a:xfrm rot="287400">
              <a:off x="7000560" y="6280560"/>
              <a:ext cx="178632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     </a:t>
              </a: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АХИР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7" descr="cdolls118.gif"/>
          <p:cNvPicPr/>
          <p:nvPr/>
        </p:nvPicPr>
        <p:blipFill>
          <a:blip r:embed="rId1"/>
          <a:stretch/>
        </p:blipFill>
        <p:spPr>
          <a:xfrm>
            <a:off x="285840" y="277920"/>
            <a:ext cx="8572320" cy="62942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857240" y="573120"/>
            <a:ext cx="564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Анц1ила ич1абилеб май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3643200" y="2852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Verdana"/>
              </a:rPr>
              <a:t>хъан лъ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Verdana"/>
              </a:rPr>
              <a:t>хъан  ас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4572000" y="3571920"/>
            <a:ext cx="1142280" cy="499680"/>
            <a:chOff x="4572000" y="3571920"/>
            <a:chExt cx="1142280" cy="499680"/>
          </a:xfrm>
        </p:grpSpPr>
        <p:sp>
          <p:nvSpPr>
            <p:cNvPr id="215" name="Line 22"/>
            <p:cNvSpPr/>
            <p:nvPr/>
          </p:nvSpPr>
          <p:spPr>
            <a:xfrm flipV="1">
              <a:off x="4572000" y="3571920"/>
              <a:ext cx="652680" cy="499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224680" y="3571920"/>
              <a:ext cx="489600" cy="499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4572000" y="4857840"/>
            <a:ext cx="533160" cy="380880"/>
            <a:chOff x="4572000" y="4857840"/>
            <a:chExt cx="533160" cy="380880"/>
          </a:xfrm>
        </p:grpSpPr>
        <p:sp>
          <p:nvSpPr>
            <p:cNvPr id="218" name="Line 22"/>
            <p:cNvSpPr/>
            <p:nvPr/>
          </p:nvSpPr>
          <p:spPr>
            <a:xfrm flipV="1">
              <a:off x="4572000" y="4857840"/>
              <a:ext cx="30456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>
              <a:off x="4876560" y="4857840"/>
              <a:ext cx="2286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20" name="Полилиния 22"/>
          <p:cNvSpPr/>
          <p:nvPr/>
        </p:nvSpPr>
        <p:spPr>
          <a:xfrm>
            <a:off x="5853240" y="3925800"/>
            <a:ext cx="785520" cy="714600"/>
          </a:xfrm>
          <a:custGeom>
            <a:avLst/>
            <a:gdLst>
              <a:gd name="textAreaLeft" fmla="*/ 0 w 785520"/>
              <a:gd name="textAreaRight" fmla="*/ 785880 w 7855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90248" h="616856">
                <a:moveTo>
                  <a:pt x="0" y="89505"/>
                </a:moveTo>
                <a:lnTo>
                  <a:pt x="0" y="553962"/>
                </a:lnTo>
                <a:lnTo>
                  <a:pt x="508000" y="539447"/>
                </a:lnTo>
                <a:cubicBezTo>
                  <a:pt x="590248" y="537028"/>
                  <a:pt x="493486" y="616856"/>
                  <a:pt x="493486" y="539447"/>
                </a:cubicBezTo>
                <a:cubicBezTo>
                  <a:pt x="493486" y="462038"/>
                  <a:pt x="508000" y="149980"/>
                  <a:pt x="508000" y="74990"/>
                </a:cubicBezTo>
                <a:cubicBezTo>
                  <a:pt x="508000" y="0"/>
                  <a:pt x="578153" y="89505"/>
                  <a:pt x="493486" y="89505"/>
                </a:cubicBezTo>
                <a:cubicBezTo>
                  <a:pt x="408819" y="89505"/>
                  <a:pt x="204409" y="82247"/>
                  <a:pt x="0" y="89505"/>
                </a:cubicBezTo>
                <a:close/>
              </a:path>
            </a:pathLst>
          </a:custGeom>
          <a:solidFill>
            <a:srgbClr val="edfad2">
              <a:alpha val="11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Полилиния 24"/>
          <p:cNvSpPr/>
          <p:nvPr/>
        </p:nvSpPr>
        <p:spPr>
          <a:xfrm>
            <a:off x="5324400" y="4749840"/>
            <a:ext cx="1285920" cy="857160"/>
          </a:xfrm>
          <a:custGeom>
            <a:avLst/>
            <a:gdLst>
              <a:gd name="textAreaLeft" fmla="*/ 0 w 1285920"/>
              <a:gd name="textAreaRight" fmla="*/ 1286280 w 12859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590248" h="616856">
                <a:moveTo>
                  <a:pt x="0" y="89505"/>
                </a:moveTo>
                <a:lnTo>
                  <a:pt x="0" y="553962"/>
                </a:lnTo>
                <a:lnTo>
                  <a:pt x="508000" y="539447"/>
                </a:lnTo>
                <a:cubicBezTo>
                  <a:pt x="590248" y="537028"/>
                  <a:pt x="493486" y="616856"/>
                  <a:pt x="493486" y="539447"/>
                </a:cubicBezTo>
                <a:cubicBezTo>
                  <a:pt x="493486" y="462038"/>
                  <a:pt x="508000" y="149980"/>
                  <a:pt x="508000" y="74990"/>
                </a:cubicBezTo>
                <a:cubicBezTo>
                  <a:pt x="508000" y="0"/>
                  <a:pt x="578153" y="89505"/>
                  <a:pt x="493486" y="89505"/>
                </a:cubicBezTo>
                <a:cubicBezTo>
                  <a:pt x="408819" y="89505"/>
                  <a:pt x="204409" y="82247"/>
                  <a:pt x="0" y="89505"/>
                </a:cubicBezTo>
                <a:close/>
              </a:path>
            </a:pathLst>
          </a:custGeom>
          <a:solidFill>
            <a:srgbClr val="edfad2">
              <a:alpha val="11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Дуга 25"/>
          <p:cNvSpPr/>
          <p:nvPr/>
        </p:nvSpPr>
        <p:spPr>
          <a:xfrm>
            <a:off x="1214280" y="3000240"/>
            <a:ext cx="2714760" cy="121464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1214640"/>
              <a:gd name="textAreaBottom" fmla="*/ 659880 h 1214640"/>
            </a:gdLst>
            <a:ahLst/>
            <a:rect l="textAreaLeft" t="textAreaTop" r="textAreaRight" b="textAreaBottom"/>
            <a:pathLst>
              <a:path stroke="0" w="2714625" h="1214438">
                <a:moveTo>
                  <a:pt x="152" y="616304"/>
                </a:moveTo>
                <a:lnTo>
                  <a:pt x="152" y="616304"/>
                </a:lnTo>
                <a:arcTo wR="1357313" hR="607219" stAng="10776988" swAng="10956152"/>
                <a:lnTo>
                  <a:pt x="1357313" y="607219"/>
                </a:lnTo>
                <a:close/>
              </a:path>
              <a:path fill="none" w="2714625" h="1214438">
                <a:moveTo>
                  <a:pt x="152" y="616304"/>
                </a:moveTo>
                <a:lnTo>
                  <a:pt x="152" y="616304"/>
                </a:lnTo>
                <a:arcTo wR="1357313" hR="607219" stAng="10776988" swAng="10956152"/>
              </a:path>
            </a:pathLst>
          </a:custGeom>
          <a:solidFill>
            <a:srgbClr val="edfad2">
              <a:alpha val="23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3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24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5" name="TextBox 27"/>
            <p:cNvSpPr/>
            <p:nvPr/>
          </p:nvSpPr>
          <p:spPr>
            <a:xfrm>
              <a:off x="2857320" y="34920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1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26" name="TextBox 20"/>
          <p:cNvSpPr/>
          <p:nvPr/>
        </p:nvSpPr>
        <p:spPr>
          <a:xfrm>
            <a:off x="642960" y="1071720"/>
            <a:ext cx="57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Кьибил – раг1ул бищун к1вар ц1ик1к1араб бут1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7" name="Group 21"/>
          <p:cNvGrpSpPr/>
          <p:nvPr/>
        </p:nvGrpSpPr>
        <p:grpSpPr>
          <a:xfrm>
            <a:off x="5572080" y="2428920"/>
            <a:ext cx="856440" cy="570960"/>
            <a:chOff x="5572080" y="2428920"/>
            <a:chExt cx="856440" cy="570960"/>
          </a:xfrm>
        </p:grpSpPr>
        <p:sp>
          <p:nvSpPr>
            <p:cNvPr id="228" name="Line 22"/>
            <p:cNvSpPr/>
            <p:nvPr/>
          </p:nvSpPr>
          <p:spPr>
            <a:xfrm flipV="1">
              <a:off x="5572080" y="2428920"/>
              <a:ext cx="48924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>
              <a:off x="6061320" y="2428920"/>
              <a:ext cx="36720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4357800" y="2428920"/>
            <a:ext cx="1070640" cy="570960"/>
            <a:chOff x="4357800" y="2428920"/>
            <a:chExt cx="1070640" cy="570960"/>
          </a:xfrm>
        </p:grpSpPr>
        <p:sp>
          <p:nvSpPr>
            <p:cNvPr id="231" name="Line 22"/>
            <p:cNvSpPr/>
            <p:nvPr/>
          </p:nvSpPr>
          <p:spPr>
            <a:xfrm flipV="1">
              <a:off x="4357800" y="2428920"/>
              <a:ext cx="61164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2" name="Line 23"/>
            <p:cNvSpPr/>
            <p:nvPr/>
          </p:nvSpPr>
          <p:spPr>
            <a:xfrm>
              <a:off x="4969440" y="2428920"/>
              <a:ext cx="45900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233" name="Picture 8" descr=""/>
          <p:cNvPicPr/>
          <p:nvPr/>
        </p:nvPicPr>
        <p:blipFill>
          <a:blip r:embed="rId2"/>
          <a:stretch/>
        </p:blipFill>
        <p:spPr>
          <a:xfrm rot="4365000">
            <a:off x="7197480" y="1000080"/>
            <a:ext cx="1460520" cy="1838160"/>
          </a:xfrm>
          <a:prstGeom prst="rect">
            <a:avLst/>
          </a:prstGeom>
          <a:ln w="0">
            <a:noFill/>
          </a:ln>
        </p:spPr>
      </p:pic>
      <p:sp>
        <p:nvSpPr>
          <p:cNvPr id="234" name="Полилиния 22"/>
          <p:cNvSpPr/>
          <p:nvPr/>
        </p:nvSpPr>
        <p:spPr>
          <a:xfrm>
            <a:off x="6680160" y="2752560"/>
            <a:ext cx="785880" cy="714600"/>
          </a:xfrm>
          <a:custGeom>
            <a:avLst/>
            <a:gdLst>
              <a:gd name="textAreaLeft" fmla="*/ 0 w 785880"/>
              <a:gd name="textAreaRight" fmla="*/ 786240 w 78588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90248" h="616856">
                <a:moveTo>
                  <a:pt x="0" y="89505"/>
                </a:moveTo>
                <a:lnTo>
                  <a:pt x="0" y="553962"/>
                </a:lnTo>
                <a:lnTo>
                  <a:pt x="508000" y="539447"/>
                </a:lnTo>
                <a:cubicBezTo>
                  <a:pt x="590248" y="537028"/>
                  <a:pt x="493486" y="616856"/>
                  <a:pt x="493486" y="539447"/>
                </a:cubicBezTo>
                <a:cubicBezTo>
                  <a:pt x="493486" y="462038"/>
                  <a:pt x="508000" y="149980"/>
                  <a:pt x="508000" y="74990"/>
                </a:cubicBezTo>
                <a:cubicBezTo>
                  <a:pt x="508000" y="0"/>
                  <a:pt x="578153" y="89505"/>
                  <a:pt x="493486" y="89505"/>
                </a:cubicBezTo>
                <a:cubicBezTo>
                  <a:pt x="408819" y="89505"/>
                  <a:pt x="204409" y="82247"/>
                  <a:pt x="0" y="89505"/>
                </a:cubicBezTo>
                <a:close/>
              </a:path>
            </a:pathLst>
          </a:custGeom>
          <a:solidFill>
            <a:srgbClr val="edfad2">
              <a:alpha val="11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5" name="Рисунок 9" descr=""/>
          <p:cNvPicPr/>
          <p:nvPr/>
        </p:nvPicPr>
        <p:blipFill>
          <a:blip r:embed="rId3"/>
          <a:stretch/>
        </p:blipFill>
        <p:spPr>
          <a:xfrm>
            <a:off x="992160" y="3608280"/>
            <a:ext cx="2981520" cy="19065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8"/>
          <p:cNvSpPr/>
          <p:nvPr/>
        </p:nvSpPr>
        <p:spPr>
          <a:xfrm>
            <a:off x="4791960" y="48578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а  лъу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38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39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0" name="TextBox 27"/>
            <p:cNvSpPr/>
            <p:nvPr/>
          </p:nvSpPr>
          <p:spPr>
            <a:xfrm>
              <a:off x="2825640" y="352440"/>
              <a:ext cx="26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2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41" name="TextBox 20"/>
          <p:cNvSpPr/>
          <p:nvPr/>
        </p:nvSpPr>
        <p:spPr>
          <a:xfrm>
            <a:off x="285840" y="942840"/>
            <a:ext cx="62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Маг1на г1агарал раг1абазул г1аммаб бут1а кьибил ккол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2" name="Picture 8" descr=""/>
          <p:cNvPicPr/>
          <p:nvPr/>
        </p:nvPicPr>
        <p:blipFill>
          <a:blip r:embed="rId2"/>
          <a:stretch/>
        </p:blipFill>
        <p:spPr>
          <a:xfrm rot="4365000">
            <a:off x="7197480" y="1000080"/>
            <a:ext cx="1460520" cy="18381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44" name="Группа 11"/>
          <p:cNvGrpSpPr/>
          <p:nvPr/>
        </p:nvGrpSpPr>
        <p:grpSpPr>
          <a:xfrm>
            <a:off x="-155160" y="1635120"/>
            <a:ext cx="5095440" cy="5000760"/>
            <a:chOff x="-155160" y="1635120"/>
            <a:chExt cx="5095440" cy="5000760"/>
          </a:xfrm>
        </p:grpSpPr>
        <p:sp>
          <p:nvSpPr>
            <p:cNvPr id="245" name="Трапеция 10"/>
            <p:cNvSpPr/>
            <p:nvPr/>
          </p:nvSpPr>
          <p:spPr>
            <a:xfrm>
              <a:off x="1560240" y="4707000"/>
              <a:ext cx="1357200" cy="1928880"/>
            </a:xfrm>
            <a:custGeom>
              <a:avLst/>
              <a:gdLst>
                <a:gd name="textAreaLeft" fmla="*/ 226080 w 1357200"/>
                <a:gd name="textAreaRight" fmla="*/ 1131120 w 1357200"/>
                <a:gd name="textAreaTop" fmla="*/ 32148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1357322" h="1929132">
                  <a:moveTo>
                    <a:pt x="0" y="1929132"/>
                  </a:moveTo>
                  <a:lnTo>
                    <a:pt x="339331" y="0"/>
                  </a:lnTo>
                  <a:lnTo>
                    <a:pt x="1017992" y="0"/>
                  </a:lnTo>
                  <a:lnTo>
                    <a:pt x="1357322" y="1929132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6" name="Облако 8"/>
            <p:cNvSpPr/>
            <p:nvPr/>
          </p:nvSpPr>
          <p:spPr>
            <a:xfrm rot="12345600">
              <a:off x="356400" y="2356560"/>
              <a:ext cx="4071960" cy="3286440"/>
            </a:xfrm>
            <a:custGeom>
              <a:avLst/>
              <a:gdLst>
                <a:gd name="textAreaLeft" fmla="*/ 561240 w 4071960"/>
                <a:gd name="textAreaRight" fmla="*/ 3221280 w 4071960"/>
                <a:gd name="textAreaTop" fmla="*/ 496080 h 3286440"/>
                <a:gd name="textAreaBottom" fmla="*/ 2638080 h 328644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5d819"/>
            </a:solidFill>
            <a:ln w="9360">
              <a:solidFill>
                <a:srgbClr val="4b6c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47" name="TextBox 12"/>
          <p:cNvSpPr/>
          <p:nvPr/>
        </p:nvSpPr>
        <p:spPr>
          <a:xfrm rot="21081000">
            <a:off x="783720" y="262044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419040" y="340524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к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Box 14"/>
          <p:cNvSpPr/>
          <p:nvPr/>
        </p:nvSpPr>
        <p:spPr>
          <a:xfrm rot="464400">
            <a:off x="1467000" y="287172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хъа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Box 15"/>
          <p:cNvSpPr/>
          <p:nvPr/>
        </p:nvSpPr>
        <p:spPr>
          <a:xfrm rot="21403800">
            <a:off x="262080" y="40194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р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Box 16"/>
          <p:cNvSpPr/>
          <p:nvPr/>
        </p:nvSpPr>
        <p:spPr>
          <a:xfrm rot="862200">
            <a:off x="2400480" y="360468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1357200" y="4643280"/>
            <a:ext cx="27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хихъанасу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3" name="Группа 23"/>
          <p:cNvGrpSpPr/>
          <p:nvPr/>
        </p:nvGrpSpPr>
        <p:grpSpPr>
          <a:xfrm>
            <a:off x="1392120" y="5857920"/>
            <a:ext cx="1714680" cy="758880"/>
            <a:chOff x="1392120" y="5857920"/>
            <a:chExt cx="1714680" cy="758880"/>
          </a:xfrm>
        </p:grpSpPr>
        <p:sp>
          <p:nvSpPr>
            <p:cNvPr id="254" name="TextBox 21"/>
            <p:cNvSpPr/>
            <p:nvPr/>
          </p:nvSpPr>
          <p:spPr>
            <a:xfrm>
              <a:off x="1392120" y="5913360"/>
              <a:ext cx="171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х</a:t>
              </a:r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Дуга 22"/>
            <p:cNvSpPr/>
            <p:nvPr/>
          </p:nvSpPr>
          <p:spPr>
            <a:xfrm>
              <a:off x="1785600" y="5857920"/>
              <a:ext cx="928800" cy="71460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714600"/>
                <a:gd name="textAreaBottom" fmla="*/ 375120 h 714600"/>
              </a:gdLst>
              <a:ahLst/>
              <a:rect l="textAreaLeft" t="textAreaTop" r="textAreaRight" b="textAreaBottom"/>
              <a:pathLst>
                <a:path stroke="0" w="928689" h="713698">
                  <a:moveTo>
                    <a:pt x="18" y="359957"/>
                  </a:moveTo>
                  <a:lnTo>
                    <a:pt x="18" y="359957"/>
                  </a:lnTo>
                  <a:arcTo wR="464345" hR="356849" stAng="10776990" swAng="10956145"/>
                  <a:lnTo>
                    <a:pt x="464345" y="356849"/>
                  </a:lnTo>
                  <a:close/>
                </a:path>
                <a:path fill="none" w="928689" h="713698">
                  <a:moveTo>
                    <a:pt x="18" y="359957"/>
                  </a:moveTo>
                  <a:lnTo>
                    <a:pt x="18" y="359957"/>
                  </a:lnTo>
                  <a:arcTo wR="464345" hR="356849" stAng="10776990" swAng="10956145"/>
                </a:path>
              </a:pathLst>
            </a:custGeom>
            <a:noFill/>
            <a:ln w="381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56" name="Скругленный прямоугольник 24"/>
          <p:cNvSpPr/>
          <p:nvPr/>
        </p:nvSpPr>
        <p:spPr>
          <a:xfrm>
            <a:off x="5087880" y="3578400"/>
            <a:ext cx="3735360" cy="1571400"/>
          </a:xfrm>
          <a:prstGeom prst="roundRect">
            <a:avLst>
              <a:gd name="adj" fmla="val 16667"/>
            </a:avLst>
          </a:prstGeom>
          <a:solidFill>
            <a:srgbClr val="c6f079"/>
          </a:solidFill>
          <a:ln w="255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b05"/>
                </a:solidFill>
                <a:latin typeface="Times New Roman"/>
                <a:ea typeface="Times New Roman"/>
              </a:rPr>
              <a:t>Ахирана-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b05"/>
                </a:solidFill>
                <a:latin typeface="Times New Roman"/>
                <a:ea typeface="Times New Roman"/>
              </a:rPr>
              <a:t>ц1ибил ахириз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58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59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0" name="TextBox 27"/>
            <p:cNvSpPr/>
            <p:nvPr/>
          </p:nvSpPr>
          <p:spPr>
            <a:xfrm>
              <a:off x="2857320" y="3492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2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1" name="TextBox 20"/>
          <p:cNvSpPr/>
          <p:nvPr/>
        </p:nvSpPr>
        <p:spPr>
          <a:xfrm>
            <a:off x="1258920" y="811080"/>
            <a:ext cx="62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Маг1на г1агарал раг1абазул г1аммаб бут1а кьибил ккол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 rot="4365000">
            <a:off x="7149960" y="979560"/>
            <a:ext cx="1460520" cy="183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j0343363"/>
          <p:cNvPicPr/>
          <p:nvPr/>
        </p:nvPicPr>
        <p:blipFill>
          <a:blip r:embed="rId3"/>
          <a:stretch/>
        </p:blipFill>
        <p:spPr>
          <a:xfrm>
            <a:off x="285840" y="3071880"/>
            <a:ext cx="2948040" cy="35719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8"/>
          <p:cNvSpPr/>
          <p:nvPr/>
        </p:nvSpPr>
        <p:spPr>
          <a:xfrm>
            <a:off x="3429000" y="2554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1ам,ц1амх1алаб,ц1ах1илаб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3484440" y="321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хьанал,   рохь,рохьихъа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3732120" y="384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гъ, рагъизе,  рагъариз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TextBox 11"/>
          <p:cNvSpPr/>
          <p:nvPr/>
        </p:nvSpPr>
        <p:spPr>
          <a:xfrm>
            <a:off x="3429000" y="44895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ъеч,   къеркьезе,  къечез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3149640" y="50990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нахъан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чанабилеб,чанил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3429000" y="5987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ран,   ч1аразе,  ч1а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Дуга 16"/>
          <p:cNvSpPr/>
          <p:nvPr/>
        </p:nvSpPr>
        <p:spPr>
          <a:xfrm rot="10800000">
            <a:off x="7143480" y="2785680"/>
            <a:ext cx="1500120" cy="42876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428760"/>
              <a:gd name="textAreaBottom" fmla="*/ 245160 h 428760"/>
            </a:gdLst>
            <a:ahLst/>
            <a:rect l="textAreaLeft" t="textAreaTop" r="textAreaRight" b="textAreaBottom"/>
            <a:pathLst>
              <a:path stroke="0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  <a:lnTo>
                  <a:pt x="750094" y="214313"/>
                </a:lnTo>
                <a:close/>
              </a:path>
              <a:path fill="none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Дуга 17"/>
          <p:cNvSpPr/>
          <p:nvPr/>
        </p:nvSpPr>
        <p:spPr>
          <a:xfrm rot="10800000">
            <a:off x="4000320" y="3357360"/>
            <a:ext cx="1857240" cy="5713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71320"/>
              <a:gd name="textAreaBottom" fmla="*/ 323640 h 571320"/>
            </a:gdLst>
            <a:ahLst/>
            <a:rect l="textAreaLeft" t="textAreaTop" r="textAreaRight" b="textAreaBottom"/>
            <a:pathLst>
              <a:path stroke="0" w="1857375" h="571500">
                <a:moveTo>
                  <a:pt x="8220" y="323684"/>
                </a:moveTo>
                <a:lnTo>
                  <a:pt x="8220" y="323684"/>
                </a:lnTo>
                <a:arcTo wR="928688" hR="285750" stAng="10658405" swAng="10941602"/>
                <a:lnTo>
                  <a:pt x="928688" y="285750"/>
                </a:lnTo>
                <a:close/>
              </a:path>
              <a:path fill="none" w="1857375" h="571500">
                <a:moveTo>
                  <a:pt x="8220" y="323684"/>
                </a:moveTo>
                <a:lnTo>
                  <a:pt x="8220" y="323684"/>
                </a:lnTo>
                <a:arcTo wR="928688" hR="285750" stAng="10658405" swAng="10941602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Дуга 19"/>
          <p:cNvSpPr/>
          <p:nvPr/>
        </p:nvSpPr>
        <p:spPr>
          <a:xfrm rot="10800000">
            <a:off x="7214760" y="4142880"/>
            <a:ext cx="1785960" cy="42876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428760"/>
              <a:gd name="textAreaBottom" fmla="*/ 250560 h 428760"/>
            </a:gdLst>
            <a:ahLst/>
            <a:rect l="textAreaLeft" t="textAreaTop" r="textAreaRight" b="textAreaBottom"/>
            <a:pathLst>
              <a:path stroke="0" w="1785937" h="428625">
                <a:moveTo>
                  <a:pt x="12881" y="250583"/>
                </a:moveTo>
                <a:lnTo>
                  <a:pt x="12881" y="250583"/>
                </a:lnTo>
                <a:arcTo wR="892969" hR="214313" stAng="10658404" swAng="10941603"/>
                <a:lnTo>
                  <a:pt x="892969" y="214313"/>
                </a:lnTo>
                <a:close/>
              </a:path>
              <a:path fill="none" w="1785937" h="428625">
                <a:moveTo>
                  <a:pt x="12881" y="250583"/>
                </a:moveTo>
                <a:lnTo>
                  <a:pt x="12881" y="250583"/>
                </a:lnTo>
                <a:arcTo wR="892969" hR="214313" stAng="10658404" swAng="10941603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Дуга 20"/>
          <p:cNvSpPr/>
          <p:nvPr/>
        </p:nvSpPr>
        <p:spPr>
          <a:xfrm rot="10800000">
            <a:off x="5286240" y="4785840"/>
            <a:ext cx="1500480" cy="42876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428760"/>
              <a:gd name="textAreaBottom" fmla="*/ 245160 h 428760"/>
            </a:gdLst>
            <a:ahLst/>
            <a:rect l="textAreaLeft" t="textAreaTop" r="textAreaRight" b="textAreaBottom"/>
            <a:pathLst>
              <a:path stroke="0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  <a:lnTo>
                  <a:pt x="750094" y="214313"/>
                </a:lnTo>
                <a:close/>
              </a:path>
              <a:path fill="none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Дуга 21"/>
          <p:cNvSpPr/>
          <p:nvPr/>
        </p:nvSpPr>
        <p:spPr>
          <a:xfrm rot="10800000">
            <a:off x="5285880" y="5367240"/>
            <a:ext cx="2071800" cy="35712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57120"/>
              <a:gd name="textAreaBottom" fmla="*/ 219960 h 357120"/>
            </a:gdLst>
            <a:ahLst/>
            <a:rect l="textAreaLeft" t="textAreaTop" r="textAreaRight" b="textAreaBottom"/>
            <a:pathLst>
              <a:path stroke="0" w="2071688" h="357187">
                <a:moveTo>
                  <a:pt x="28381" y="220113"/>
                </a:moveTo>
                <a:lnTo>
                  <a:pt x="28380" y="220113"/>
                </a:lnTo>
                <a:arcTo wR="1035844" hR="178594" stAng="10658406" swAng="10941601"/>
                <a:lnTo>
                  <a:pt x="1035844" y="178594"/>
                </a:lnTo>
                <a:close/>
              </a:path>
              <a:path fill="none" w="2071688" h="357187">
                <a:moveTo>
                  <a:pt x="28381" y="220113"/>
                </a:moveTo>
                <a:lnTo>
                  <a:pt x="28380" y="220113"/>
                </a:lnTo>
                <a:arcTo wR="1035844" hR="178594" stAng="10658406" swAng="10941601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Дуга 22"/>
          <p:cNvSpPr/>
          <p:nvPr/>
        </p:nvSpPr>
        <p:spPr>
          <a:xfrm rot="10800000">
            <a:off x="4000680" y="621504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211680 h 357120"/>
            </a:gdLst>
            <a:ahLst/>
            <a:rect l="textAreaLeft" t="textAreaTop" r="textAreaRight" b="textAreaBottom"/>
            <a:pathLst>
              <a:path stroke="0" w="1643063" h="357187">
                <a:moveTo>
                  <a:pt x="14376" y="211858"/>
                </a:moveTo>
                <a:lnTo>
                  <a:pt x="14376" y="211858"/>
                </a:lnTo>
                <a:arcTo wR="821532" hR="178594" stAng="10658406" swAng="10941598"/>
                <a:lnTo>
                  <a:pt x="821532" y="178594"/>
                </a:lnTo>
                <a:close/>
              </a:path>
              <a:path fill="none" w="1643063" h="357187">
                <a:moveTo>
                  <a:pt x="14376" y="211858"/>
                </a:moveTo>
                <a:lnTo>
                  <a:pt x="14376" y="211858"/>
                </a:lnTo>
                <a:arcTo wR="821532" hR="178594" stAng="10658406" swAng="10941598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85920" y="2325240"/>
            <a:ext cx="49579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66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78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79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0" name="TextBox 27"/>
            <p:cNvSpPr/>
            <p:nvPr/>
          </p:nvSpPr>
          <p:spPr>
            <a:xfrm>
              <a:off x="2857320" y="34920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3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81" name="TextBox 20"/>
          <p:cNvSpPr/>
          <p:nvPr/>
        </p:nvSpPr>
        <p:spPr>
          <a:xfrm>
            <a:off x="1077840" y="70812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Цого кьибилалъул раг1аби бат1и-бат1иял каламалъул бут1абилъун ккезе бегьул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2"/>
          <a:stretch/>
        </p:blipFill>
        <p:spPr>
          <a:xfrm rot="4365000">
            <a:off x="7197480" y="1000080"/>
            <a:ext cx="1460520" cy="183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357120" y="2643120"/>
          <a:ext cx="8143920" cy="3033720"/>
        </p:xfrm>
        <a:graphic>
          <a:graphicData uri="http://schemas.openxmlformats.org/drawingml/2006/table">
            <a:tbl>
              <a:tblPr/>
              <a:tblGrid>
                <a:gridCol w="2643120"/>
                <a:gridCol w="1727280"/>
                <a:gridCol w="1887480"/>
                <a:gridCol w="188604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ьуин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ц1ам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ъик1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едметияб ц1ар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щиб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инаб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лагол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щиб гьабизе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Дуга 9"/>
          <p:cNvSpPr/>
          <p:nvPr/>
        </p:nvSpPr>
        <p:spPr>
          <a:xfrm>
            <a:off x="3286080" y="2714760"/>
            <a:ext cx="1143000" cy="571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71320"/>
              <a:gd name="textAreaBottom" fmla="*/ 307800 h 571320"/>
            </a:gdLst>
            <a:ahLst/>
            <a:rect l="textAreaLeft" t="textAreaTop" r="textAreaRight" b="textAreaBottom"/>
            <a:pathLst>
              <a:path stroke="0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  <a:lnTo>
                  <a:pt x="571500" y="285750"/>
                </a:lnTo>
                <a:close/>
              </a:path>
              <a:path fill="none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Дуга 10"/>
          <p:cNvSpPr/>
          <p:nvPr/>
        </p:nvSpPr>
        <p:spPr>
          <a:xfrm>
            <a:off x="5059440" y="2717640"/>
            <a:ext cx="1143000" cy="5716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71680"/>
              <a:gd name="textAreaBottom" fmla="*/ 307800 h 571680"/>
            </a:gdLst>
            <a:ahLst/>
            <a:rect l="textAreaLeft" t="textAreaTop" r="textAreaRight" b="textAreaBottom"/>
            <a:pathLst>
              <a:path stroke="0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  <a:lnTo>
                  <a:pt x="571500" y="285750"/>
                </a:lnTo>
                <a:close/>
              </a:path>
              <a:path fill="none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Дуга 11"/>
          <p:cNvSpPr/>
          <p:nvPr/>
        </p:nvSpPr>
        <p:spPr>
          <a:xfrm>
            <a:off x="7000920" y="2714760"/>
            <a:ext cx="1143000" cy="571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71320"/>
              <a:gd name="textAreaBottom" fmla="*/ 307800 h 571320"/>
            </a:gdLst>
            <a:ahLst/>
            <a:rect l="textAreaLeft" t="textAreaTop" r="textAreaRight" b="textAreaBottom"/>
            <a:pathLst>
              <a:path stroke="0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  <a:lnTo>
                  <a:pt x="571500" y="285750"/>
                </a:lnTo>
                <a:close/>
              </a:path>
              <a:path fill="none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7" name="Picture 30" descr="F:\моя защита на 1 категорию\АНИМАЦИЯ\Анимация\Цветы\255.gif"/>
          <p:cNvPicPr/>
          <p:nvPr/>
        </p:nvPicPr>
        <p:blipFill>
          <a:blip r:embed="rId3"/>
          <a:stretch/>
        </p:blipFill>
        <p:spPr>
          <a:xfrm>
            <a:off x="3452760" y="34624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1" descr="F:\моя защита на 1 категорию\АНИМАЦИЯ\Анимация\Цветы\100.gif"/>
          <p:cNvPicPr/>
          <p:nvPr/>
        </p:nvPicPr>
        <p:blipFill>
          <a:blip r:embed="rId4"/>
          <a:stretch/>
        </p:blipFill>
        <p:spPr>
          <a:xfrm>
            <a:off x="5357880" y="349560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0" descr="F:\моя защита на 1 категорию\АНИМАЦИЯ\Анимация\Цветы\255.gif"/>
          <p:cNvPicPr/>
          <p:nvPr/>
        </p:nvPicPr>
        <p:blipFill>
          <a:blip r:embed="rId5"/>
          <a:stretch/>
        </p:blipFill>
        <p:spPr>
          <a:xfrm>
            <a:off x="3286080" y="50007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1" descr="F:\моя защита на 1 категорию\АНИМАЦИЯ\Анимация\Цветы\100.gif"/>
          <p:cNvPicPr/>
          <p:nvPr/>
        </p:nvPicPr>
        <p:blipFill>
          <a:blip r:embed="rId6"/>
          <a:stretch/>
        </p:blipFill>
        <p:spPr>
          <a:xfrm>
            <a:off x="5286240" y="4964040"/>
            <a:ext cx="720720" cy="679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0" descr="F:\моя защита на 1 категорию\АНИМАЦИЯ\Анимация\Цветы\255.gif"/>
          <p:cNvPicPr/>
          <p:nvPr/>
        </p:nvPicPr>
        <p:blipFill>
          <a:blip r:embed="rId7"/>
          <a:stretch/>
        </p:blipFill>
        <p:spPr>
          <a:xfrm>
            <a:off x="5643720" y="42148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0" descr="F:\моя защита на 1 категорию\АНИМАЦИЯ\Анимация\Цветы\255.gif"/>
          <p:cNvPicPr/>
          <p:nvPr/>
        </p:nvPicPr>
        <p:blipFill>
          <a:blip r:embed="rId8"/>
          <a:stretch/>
        </p:blipFill>
        <p:spPr>
          <a:xfrm>
            <a:off x="7072200" y="3500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0" descr="F:\моя защита на 1 категорию\АНИМАЦИЯ\Анимация\Цветы\255.gif"/>
          <p:cNvPicPr/>
          <p:nvPr/>
        </p:nvPicPr>
        <p:blipFill>
          <a:blip r:embed="rId9"/>
          <a:stretch/>
        </p:blipFill>
        <p:spPr>
          <a:xfrm>
            <a:off x="6715080" y="4929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1" descr="F:\моя защита на 1 категорию\АНИМАЦИЯ\Анимация\Цветы\100.gif"/>
          <p:cNvPicPr/>
          <p:nvPr/>
        </p:nvPicPr>
        <p:blipFill>
          <a:blip r:embed="rId10"/>
          <a:stretch/>
        </p:blipFill>
        <p:spPr>
          <a:xfrm>
            <a:off x="3857760" y="4214880"/>
            <a:ext cx="720720" cy="679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1" descr="F:\моя защита на 1 категорию\АНИМАЦИЯ\Анимация\Цветы\100.gif"/>
          <p:cNvPicPr/>
          <p:nvPr/>
        </p:nvPicPr>
        <p:blipFill>
          <a:blip r:embed="rId11"/>
          <a:stretch/>
        </p:blipFill>
        <p:spPr>
          <a:xfrm>
            <a:off x="7500960" y="4214880"/>
            <a:ext cx="72072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7" name="P.Mauriat - Love is blue.mp3" descr=""/>
          <p:cNvPicPr/>
          <p:nvPr/>
        </p:nvPicPr>
        <p:blipFill>
          <a:blip r:embed="rId1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8" name="35_SHum_mor_-_35_SHum_morya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9:51:42Z</dcterms:created>
  <dc:creator>student</dc:creator>
  <dc:description/>
  <dc:language>en-US</dc:language>
  <cp:lastModifiedBy>admin</cp:lastModifiedBy>
  <dcterms:modified xsi:type="dcterms:W3CDTF">2019-02-24T16:38:38Z</dcterms:modified>
  <cp:revision>122</cp:revision>
  <dc:subject/>
  <dc:title>Однокоренные слова и формы одного и того же слова</dc:title>
</cp:coreProperties>
</file>