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gif" ContentType="image/gif"/>
  <Override PartName="/ppt/media/image11.png" ContentType="image/png"/>
  <Override PartName="/ppt/media/image6.wmf" ContentType="image/x-wmf"/>
  <Override PartName="/ppt/media/image9.png" ContentType="image/png"/>
  <Override PartName="/ppt/media/image7.png" ContentType="image/png"/>
  <Override PartName="/ppt/media/image27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8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chimes.wav" ContentType="audio/x-wav"/>
  <Override PartName="/ppt/media/image22.png" ContentType="image/png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24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8.png" ContentType="image/png"/>
  <Override PartName="/ppt/media/image15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3F4-B987-46E1-B4D7-D11DB413F7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AC4-08EA-4CBA-A608-D5CA446846C6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B72C-FE37-425F-AEC3-3D37D096593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A3A8-C9FC-446D-AA8B-55D6B5F2E33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A82-EF69-4149-99C1-A7FA906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968-48A4-4EAC-A168-1D87FBA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FEF-A4FB-4102-B219-CBC6CF09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4B8-186E-41B3-BFCD-6735F88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FE71-77E9-41BD-9BEB-F7DD67BD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830C-3973-4CC6-908B-23DF0090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649D-9BD8-4FD8-989B-37A0957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BDE-D283-42E3-A85D-78E5645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FBC-B005-47AB-99B5-3307079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DB9-4F90-4B3F-A763-07AF77A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23E9-A22A-4E6B-B457-303E8CC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D5C-2F2A-42C5-A0B8-C9DEC15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2BA8-3D72-41DF-8803-BF6DB15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5A52-A374-4E0B-9D08-A0246F6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77FE-78B2-4748-8DD1-194D6BD3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62B-44B1-44DB-8948-DE48D1BA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29F-7BC2-471D-A7B0-63547F0D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15D-FD68-48E2-A642-60583347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2F9-0F29-4535-A736-5BA5E87B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BA4-7BC5-4AC9-A2C1-F93579C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F44-F651-4310-B962-FD9FA06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DED-E75D-42C8-B511-57BED27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1B9-F6A7-4AE1-9ECC-563004B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A1C-4914-49D3-964A-678C6C9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0C38-8883-4952-A82A-07A4C81D49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3880" y="63360"/>
              <a:ext cx="3636360" cy="6146640"/>
              <a:chOff x="5393880" y="63360"/>
              <a:chExt cx="3636360" cy="6146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440" y="348480"/>
                <a:ext cx="2116800" cy="235728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6720" y="197208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1640" y="25938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8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8800" y="265824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920" y="1247760"/>
                <a:ext cx="190440" cy="1422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4160" y="2948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>
                <a:gd name="textAreaLeft" fmla="*/ -360 w 513000"/>
                <a:gd name="textAreaRight" fmla="*/ 513000 w 51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0160" cy="243216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600" cy="728640"/>
            </a:xfrm>
            <a:custGeom>
              <a:avLst/>
              <a:gdLst>
                <a:gd name="textAreaLeft" fmla="*/ 0 w 1272600"/>
                <a:gd name="textAreaRight" fmla="*/ 1272960 w 12726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960" y="4532040"/>
              <a:ext cx="562320" cy="736560"/>
            </a:xfrm>
            <a:custGeom>
              <a:avLst/>
              <a:gdLst>
                <a:gd name="textAreaLeft" fmla="*/ 360 w 562320"/>
                <a:gd name="textAreaRight" fmla="*/ 563040 w 56232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864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0720" y="5195880"/>
              <a:ext cx="1760400" cy="166212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4400" y="1033200"/>
              <a:ext cx="1015920" cy="1262520"/>
              <a:chOff x="4154400" y="1033200"/>
              <a:chExt cx="101592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9480" y="1071000"/>
                <a:ext cx="285840" cy="379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408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44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69640"/>
              <a:ext cx="893880" cy="825840"/>
              <a:chOff x="5643720" y="269640"/>
              <a:chExt cx="89388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320" y="764280"/>
                <a:ext cx="179280" cy="3621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920" y="444600"/>
                <a:ext cx="306360" cy="30096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69360"/>
                <a:ext cx="319320" cy="15336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7000"/>
              <a:ext cx="1059480" cy="830520"/>
              <a:chOff x="969840" y="5247000"/>
              <a:chExt cx="105948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10880"/>
                <a:ext cx="251280" cy="3006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22560"/>
                <a:ext cx="429840" cy="2487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1560"/>
                <a:ext cx="449280" cy="1267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9400"/>
              <a:ext cx="1692000" cy="1146600"/>
              <a:chOff x="376200" y="41940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788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920" y="562680"/>
                <a:ext cx="608400" cy="44100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6760"/>
                <a:ext cx="636120" cy="22464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17800" y="3711960"/>
              <a:ext cx="1156320" cy="1608120"/>
              <a:chOff x="7417800" y="3711960"/>
              <a:chExt cx="1156320" cy="16081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2520" y="4755960"/>
                <a:ext cx="355680" cy="530640"/>
              </a:xfrm>
              <a:custGeom>
                <a:avLst/>
                <a:gdLst>
                  <a:gd name="textAreaLeft" fmla="*/ 360 w 355680"/>
                  <a:gd name="textAreaRight" fmla="*/ 356400 w 35568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3240" y="4455360"/>
                <a:ext cx="608760" cy="441000"/>
              </a:xfrm>
              <a:custGeom>
                <a:avLst/>
                <a:gdLst>
                  <a:gd name="textAreaLeft" fmla="*/ -360 w 608760"/>
                  <a:gd name="textAreaRight" fmla="*/ 608760 w 60876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15800" y="3781080"/>
                <a:ext cx="636480" cy="22428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3560" y="3240"/>
              <a:ext cx="1369440" cy="14065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7920" y="160560"/>
              <a:ext cx="1081800" cy="941760"/>
            </a:xfrm>
            <a:custGeom>
              <a:avLst/>
              <a:gdLst>
                <a:gd name="textAreaLeft" fmla="*/ 0 w 1081800"/>
                <a:gd name="textAreaRight" fmla="*/ 1082160 w 1081800"/>
                <a:gd name="textAreaTop" fmla="*/ 360 h 941760"/>
                <a:gd name="textAreaBottom" fmla="*/ 942480 h 9417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2320" y="1361160"/>
              <a:ext cx="524160" cy="4410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304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0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1680" y="1964160"/>
              <a:ext cx="624240" cy="365184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360 h 3651840"/>
                <a:gd name="textAreaBottom" fmla="*/ 3652560 h 36518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C85-E613-4907-A471-86F787CA694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wmf"/><Relationship Id="rId3" Type="http://schemas.openxmlformats.org/officeDocument/2006/relationships/image" Target="../media/image6.wmf"/><Relationship Id="rId4" Type="http://schemas.openxmlformats.org/officeDocument/2006/relationships/image" Target="../media/image2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2046240"/>
            <a:ext cx="810900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«Раг1ул г1уц1и»  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   улкаялде сапар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1944720" cy="1704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QUILLPEN"/>
          <p:cNvPicPr/>
          <p:nvPr/>
        </p:nvPicPr>
        <p:blipFill>
          <a:blip r:embed="rId2"/>
          <a:stretch/>
        </p:blipFill>
        <p:spPr>
          <a:xfrm>
            <a:off x="395280" y="4322880"/>
            <a:ext cx="1152360" cy="174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OOK1"/>
          <p:cNvPicPr/>
          <p:nvPr/>
        </p:nvPicPr>
        <p:blipFill>
          <a:blip r:embed="rId3"/>
          <a:stretch/>
        </p:blipFill>
        <p:spPr>
          <a:xfrm>
            <a:off x="1143000" y="5500800"/>
            <a:ext cx="166212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Училка"/>
          <p:cNvPicPr/>
          <p:nvPr/>
        </p:nvPicPr>
        <p:blipFill>
          <a:blip r:embed="rId4"/>
          <a:stretch/>
        </p:blipFill>
        <p:spPr>
          <a:xfrm>
            <a:off x="6429240" y="28584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Овал 3"/>
          <p:cNvSpPr/>
          <p:nvPr/>
        </p:nvSpPr>
        <p:spPr>
          <a:xfrm>
            <a:off x="3786120" y="2571840"/>
            <a:ext cx="1928880" cy="1857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Picture 5" descr="на корабле"/>
          <p:cNvPicPr/>
          <p:nvPr/>
        </p:nvPicPr>
        <p:blipFill>
          <a:blip r:embed="rId1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ship2"/>
          <p:cNvPicPr/>
          <p:nvPr/>
        </p:nvPicPr>
        <p:blipFill>
          <a:blip r:embed="rId2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3714120" y="1000080"/>
            <a:ext cx="500040" cy="13572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 flipH="1">
            <a:off x="5000760" y="857160"/>
            <a:ext cx="357120" cy="1500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 flipV="1">
            <a:off x="1857240" y="3499920"/>
            <a:ext cx="1785960" cy="1429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 flipH="1">
            <a:off x="5571720" y="1713960"/>
            <a:ext cx="1428840" cy="928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Прямая соединительная линия 12"/>
          <p:cNvSpPr/>
          <p:nvPr/>
        </p:nvSpPr>
        <p:spPr>
          <a:xfrm flipH="1">
            <a:off x="5929200" y="3071160"/>
            <a:ext cx="1857600" cy="214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Прямая соединительная линия 13"/>
          <p:cNvSpPr/>
          <p:nvPr/>
        </p:nvSpPr>
        <p:spPr>
          <a:xfrm flipH="1" flipV="1">
            <a:off x="5929200" y="4000320"/>
            <a:ext cx="1500480" cy="5000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Прямая соединительная линия 15"/>
          <p:cNvSpPr/>
          <p:nvPr/>
        </p:nvSpPr>
        <p:spPr>
          <a:xfrm flipH="1">
            <a:off x="4000680" y="4572000"/>
            <a:ext cx="452160" cy="10717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 flipV="1">
            <a:off x="2571840" y="4071960"/>
            <a:ext cx="1143000" cy="642960"/>
          </a:xfrm>
          <a:prstGeom prst="line">
            <a:avLst/>
          </a:prstGeom>
          <a:ln w="7632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428440" y="4429080"/>
            <a:ext cx="785880" cy="107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Прямая соединительная линия 32"/>
          <p:cNvSpPr/>
          <p:nvPr/>
        </p:nvSpPr>
        <p:spPr>
          <a:xfrm>
            <a:off x="2571840" y="2000160"/>
            <a:ext cx="1071360" cy="642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35_SHum_mor_-_35_SHum_morya.mp3" descr=""/>
          <p:cNvPicPr/>
          <p:nvPr/>
        </p:nvPicPr>
        <p:blipFill>
          <a:blip r:embed="rId3"/>
          <a:stretch/>
        </p:blipFill>
        <p:spPr>
          <a:xfrm>
            <a:off x="7839000" y="5672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452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6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4062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5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mph" presetID="8">
                                  <p:stCondLst>
                                    <p:cond delay="9000"/>
                                  </p:stCondLst>
                                  <p:childTnLst>
                                    <p:animRot by="21600000">
                                      <p:cBhvr>
                                        <p:cTn id="71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ivan"/>
          <p:cNvPicPr/>
          <p:nvPr/>
        </p:nvPicPr>
        <p:blipFill>
          <a:blip r:embed="rId1"/>
          <a:stretch/>
        </p:blipFill>
        <p:spPr>
          <a:xfrm>
            <a:off x="4394160" y="1214280"/>
            <a:ext cx="4606920" cy="578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2"/>
          <a:stretch/>
        </p:blipFill>
        <p:spPr>
          <a:xfrm rot="4365000">
            <a:off x="1434960" y="132552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 rot="4365000">
            <a:off x="1434960" y="261144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 rot="4365000">
            <a:off x="1577880" y="396864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371" name="Лента лицом вверх 6"/>
          <p:cNvSpPr/>
          <p:nvPr/>
        </p:nvSpPr>
        <p:spPr>
          <a:xfrm>
            <a:off x="0" y="214200"/>
            <a:ext cx="8929800" cy="1071720"/>
          </a:xfrm>
          <a:custGeom>
            <a:avLst/>
            <a:gdLst>
              <a:gd name="textAreaLeft" fmla="*/ 1116000 w 8929800"/>
              <a:gd name="textAreaRight" fmla="*/ 7813800 w 892980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ьибилалъул балъголъаб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39640" y="549360"/>
          <a:ext cx="8429760" cy="469728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1402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1.    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Кьибил ккола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Раг1ул бищун к1вар ц1ик1к1араб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Калама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Предложения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Маг1на г1агарал раг1абазул г1аммаб бут1а ккола…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Асл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 Ахи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 Кьиби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3.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Цого кьибилалъул раг1аби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Цо каламалъул бут1алъун ккола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Бат1и-бат1иял суалазе жаваблъун рач1уна, бат1и-бат1иял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ламалъул бут1абилъун ккол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Цого суалазе жаваблъун рач1ун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"/>
          <p:cNvPicPr/>
          <p:nvPr/>
        </p:nvPicPr>
        <p:blipFill>
          <a:blip r:embed="rId2"/>
          <a:stretch/>
        </p:blipFill>
        <p:spPr>
          <a:xfrm rot="4365000">
            <a:off x="7319520" y="1110960"/>
            <a:ext cx="1460520" cy="1838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529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6600ff"/>
                </a:solidFill>
                <a:latin typeface="Verdana"/>
              </a:rPr>
              <a:t>Бит1араб жаваб бихьизаб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6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920880" y="1189080"/>
            <a:ext cx="3870360" cy="493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853920" y="3333600"/>
            <a:ext cx="1352880" cy="4932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036800" y="4475160"/>
            <a:ext cx="7735680" cy="604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>
            <a:hlinkClick r:id="rId6" action="ppaction://hlinksldjump"/>
          </p:cNvPr>
          <p:cNvSpPr/>
          <p:nvPr/>
        </p:nvSpPr>
        <p:spPr>
          <a:xfrm>
            <a:off x="7864560" y="4719600"/>
            <a:ext cx="904680" cy="335160"/>
          </a:xfrm>
          <a:custGeom>
            <a:avLst/>
            <a:gdLst>
              <a:gd name="textAreaLeft" fmla="*/ 94320 w 904680"/>
              <a:gd name="textAreaRight" fmla="*/ 634680 w 90468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-1831373"/>
                <a:lnTo>
                  <a:pt x="21342" y="7200"/>
                </a:lnTo>
                <a:lnTo>
                  <a:pt x="13204" y="0"/>
                </a:lnTo>
                <a:lnTo>
                  <a:pt x="4549" y="7200"/>
                </a:lnTo>
                <a:lnTo>
                  <a:pt x="8747" y="7200"/>
                </a:lnTo>
                <a:arcTo wR="4503" hR="21600" stAng="3568627" swAng="134259"/>
                <a:lnTo>
                  <a:pt x="8701" y="7802"/>
                </a:lnTo>
                <a:arcTo wR="4503" hR="21600" stAng="7097114" swAng="3702886"/>
                <a:close/>
              </a:path>
              <a:path fill="darkenLess"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1697114"/>
                <a:lnTo>
                  <a:pt x="8701" y="7802"/>
                </a:lnTo>
                <a:arcTo wR="4503" hR="21600" stAng="7097114" swAng="3702886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900000" y="404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Дуего къимат кье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835280" y="1484280"/>
            <a:ext cx="70578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Дида дарсил тема бич1ч1ана, х1алт1улъ цониги гъалат1 ккеч1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ана, амма 1-2 гъалат1 ккана х1алт1улъ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6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ич1о, х1алт1улъ г1емерал гъалат1алги кка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19240" cy="10872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8"/>
          <p:cNvSpPr/>
          <p:nvPr/>
        </p:nvSpPr>
        <p:spPr>
          <a:xfrm>
            <a:off x="285840" y="2928960"/>
            <a:ext cx="1143000" cy="10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Прямоугольник 10"/>
          <p:cNvSpPr/>
          <p:nvPr/>
        </p:nvSpPr>
        <p:spPr>
          <a:xfrm>
            <a:off x="285840" y="4572000"/>
            <a:ext cx="1143000" cy="1071720"/>
          </a:xfrm>
          <a:prstGeom prst="rect">
            <a:avLst/>
          </a:prstGeom>
          <a:solidFill>
            <a:srgbClr val="0033cc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428760" y="13572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5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428760" y="28926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4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428760" y="460692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3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PE03166_"/>
          <p:cNvPicPr/>
          <p:nvPr/>
        </p:nvPicPr>
        <p:blipFill>
          <a:blip r:embed="rId2"/>
          <a:stretch/>
        </p:blipFill>
        <p:spPr>
          <a:xfrm>
            <a:off x="5929200" y="366876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3"/>
          <a:stretch/>
        </p:blipFill>
        <p:spPr>
          <a:xfrm rot="4626000">
            <a:off x="6798960" y="793440"/>
            <a:ext cx="1752840" cy="2206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AG00319_"/>
          <p:cNvPicPr/>
          <p:nvPr/>
        </p:nvPicPr>
        <p:blipFill>
          <a:blip r:embed="rId4"/>
          <a:stretch/>
        </p:blipFill>
        <p:spPr>
          <a:xfrm>
            <a:off x="1636560" y="2714760"/>
            <a:ext cx="3149640" cy="29588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6000" y="999720"/>
            <a:ext cx="65293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Х1алч1ахъадал!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Нуж лъик1 х1алт1ана!!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моя защита на 1 категорию\мои школьные фото\1 сегнтября.jpg"/>
          <p:cNvPicPr/>
          <p:nvPr/>
        </p:nvPicPr>
        <p:blipFill>
          <a:blip r:embed="rId1"/>
          <a:stretch/>
        </p:blipFill>
        <p:spPr>
          <a:xfrm>
            <a:off x="6302520" y="2921040"/>
            <a:ext cx="2841480" cy="3500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 rot="2097000">
            <a:off x="678960" y="-461880"/>
            <a:ext cx="1351080" cy="1701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512640" y="10933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аби г1уц1ун рук1уна гьал бут1абаздасан . .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3420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ул ахир ккола предложениялъулъ…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12640" y="5053320"/>
            <a:ext cx="2702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82"/>
                </a:solidFill>
                <a:latin typeface="Verdana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Аслу ккола . . .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4800" y="2475360"/>
            <a:ext cx="7388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кьибилалде т1адеги жубан, ц1иял раг1аби лъугьинарулел яги раг1ул форма хисизабул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785880" y="5447160"/>
            <a:ext cx="5786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хир нахъе рехун, гъоркь хут1улеб раг1ул маг1наялъе кьуч1лъун буг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6040" y="4100040"/>
            <a:ext cx="70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маг1наялъул рахъалъ раг1аби цоцалъ рекъезе, раг1ул аслуялде т1аде жубалеб хисарулеб бут1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43000" y="37875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1507680"/>
            <a:ext cx="515160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слу, ахир, кьибил, суффикс 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312840" y="21528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Суффикс ккола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8"/>
          <p:cNvSpPr/>
          <p:nvPr/>
        </p:nvSpPr>
        <p:spPr>
          <a:xfrm>
            <a:off x="2214720" y="2143080"/>
            <a:ext cx="4214520" cy="13572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ТАТГ1ТУТЛ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КЬУИУБУИУЛ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Лента лицом вверх 11"/>
          <p:cNvSpPr/>
          <p:nvPr/>
        </p:nvSpPr>
        <p:spPr>
          <a:xfrm>
            <a:off x="1428840" y="214200"/>
            <a:ext cx="7500960" cy="1428840"/>
          </a:xfrm>
          <a:custGeom>
            <a:avLst/>
            <a:gdLst>
              <a:gd name="textAreaLeft" fmla="*/ 937440 w 7500960"/>
              <a:gd name="textAreaRight" fmla="*/ 6563520 w 7500960"/>
              <a:gd name="textAreaTop" fmla="*/ 0 h 1428840"/>
              <a:gd name="textAreaBottom" fmla="*/ 1190880 h 142884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г1ул г1уц1и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20708" t="33073" r="31933" b="14947"/>
          <a:stretch/>
        </p:blipFill>
        <p:spPr>
          <a:xfrm rot="20671200">
            <a:off x="-66600" y="169560"/>
            <a:ext cx="231624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дискуссия"/>
          <p:cNvPicPr/>
          <p:nvPr/>
        </p:nvPicPr>
        <p:blipFill>
          <a:blip r:embed="rId2"/>
          <a:stretch/>
        </p:blipFill>
        <p:spPr>
          <a:xfrm>
            <a:off x="7358040" y="1714680"/>
            <a:ext cx="1285920" cy="20826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9"/>
          <p:cNvSpPr/>
          <p:nvPr/>
        </p:nvSpPr>
        <p:spPr>
          <a:xfrm>
            <a:off x="2395440" y="2308320"/>
            <a:ext cx="3929040" cy="1071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аг1ул кьиб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5" name="Полилиния 15"/>
          <p:cNvGrpSpPr/>
          <p:nvPr/>
        </p:nvGrpSpPr>
        <p:grpSpPr>
          <a:xfrm>
            <a:off x="2719440" y="3114720"/>
            <a:ext cx="4881600" cy="3432240"/>
            <a:chOff x="2719440" y="3114720"/>
            <a:chExt cx="4881600" cy="3432240"/>
          </a:xfrm>
        </p:grpSpPr>
        <p:pic>
          <p:nvPicPr>
            <p:cNvPr id="196" name="Полилиния 15" descr=""/>
            <p:cNvPicPr/>
            <p:nvPr/>
          </p:nvPicPr>
          <p:blipFill>
            <a:blip r:embed="rId3"/>
            <a:stretch/>
          </p:blipFill>
          <p:spPr>
            <a:xfrm>
              <a:off x="2719440" y="3114720"/>
              <a:ext cx="48816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0200" y="3164040"/>
              <a:ext cx="4791240" cy="33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8" name="Группа 22"/>
          <p:cNvGrpSpPr/>
          <p:nvPr/>
        </p:nvGrpSpPr>
        <p:grpSpPr>
          <a:xfrm>
            <a:off x="138240" y="4001040"/>
            <a:ext cx="2101680" cy="2455200"/>
            <a:chOff x="138240" y="4001040"/>
            <a:chExt cx="2101680" cy="2455200"/>
          </a:xfrm>
        </p:grpSpPr>
        <p:pic>
          <p:nvPicPr>
            <p:cNvPr id="199" name="Picture 32" descr="F:\моя защита на 1 категорию\АНИМАЦИЯ\Анимация\196.gif"/>
            <p:cNvPicPr/>
            <p:nvPr/>
          </p:nvPicPr>
          <p:blipFill>
            <a:blip r:embed="rId4"/>
            <a:stretch/>
          </p:blipFill>
          <p:spPr>
            <a:xfrm rot="21111000">
              <a:off x="260280" y="4123080"/>
              <a:ext cx="185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Скругленный прямоугольник 18"/>
            <p:cNvSpPr/>
            <p:nvPr/>
          </p:nvSpPr>
          <p:spPr>
            <a:xfrm rot="21111000">
              <a:off x="412560" y="5903280"/>
              <a:ext cx="17859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СЛУ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1" name="Группа 23"/>
          <p:cNvGrpSpPr/>
          <p:nvPr/>
        </p:nvGrpSpPr>
        <p:grpSpPr>
          <a:xfrm>
            <a:off x="2428920" y="3714840"/>
            <a:ext cx="1785960" cy="2143080"/>
            <a:chOff x="2428920" y="3714840"/>
            <a:chExt cx="1785960" cy="2143080"/>
          </a:xfrm>
        </p:grpSpPr>
        <p:pic>
          <p:nvPicPr>
            <p:cNvPr id="202" name="Picture 32" descr="F:\моя защита на 1 категорию\АНИМАЦИЯ\Анимация\196.gif"/>
            <p:cNvPicPr/>
            <p:nvPr/>
          </p:nvPicPr>
          <p:blipFill>
            <a:blip r:embed="rId5"/>
            <a:stretch/>
          </p:blipFill>
          <p:spPr>
            <a:xfrm>
              <a:off x="2428920" y="3714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Скругленный прямоугольник 19"/>
            <p:cNvSpPr/>
            <p:nvPr/>
          </p:nvSpPr>
          <p:spPr>
            <a:xfrm>
              <a:off x="2500200" y="5429520"/>
              <a:ext cx="15717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КЬИБИЛ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4" name="Группа 24"/>
          <p:cNvGrpSpPr/>
          <p:nvPr/>
        </p:nvGrpSpPr>
        <p:grpSpPr>
          <a:xfrm>
            <a:off x="4913640" y="4071960"/>
            <a:ext cx="2008080" cy="2342880"/>
            <a:chOff x="4913640" y="4071960"/>
            <a:chExt cx="2008080" cy="2342880"/>
          </a:xfrm>
        </p:grpSpPr>
        <p:pic>
          <p:nvPicPr>
            <p:cNvPr id="205" name="Picture 32" descr="F:\моя защита на 1 категорию\АНИМАЦИЯ\Анимация\196.gif"/>
            <p:cNvPicPr/>
            <p:nvPr/>
          </p:nvPicPr>
          <p:blipFill>
            <a:blip r:embed="rId6"/>
            <a:stretch/>
          </p:blipFill>
          <p:spPr>
            <a:xfrm rot="459600">
              <a:off x="5024520" y="4182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Скругленный прямоугольник 20"/>
            <p:cNvSpPr/>
            <p:nvPr/>
          </p:nvSpPr>
          <p:spPr>
            <a:xfrm rot="459600">
              <a:off x="5028840" y="5888160"/>
              <a:ext cx="150048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СУФФИК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7" name="Группа 25"/>
          <p:cNvGrpSpPr/>
          <p:nvPr/>
        </p:nvGrpSpPr>
        <p:grpSpPr>
          <a:xfrm>
            <a:off x="6986160" y="4503960"/>
            <a:ext cx="2030040" cy="2278800"/>
            <a:chOff x="6986160" y="4503960"/>
            <a:chExt cx="2030040" cy="2278800"/>
          </a:xfrm>
        </p:grpSpPr>
        <p:pic>
          <p:nvPicPr>
            <p:cNvPr id="208" name="Picture 32" descr="F:\моя защита на 1 категорию\АНИМАЦИЯ\Анимация\196.gif"/>
            <p:cNvPicPr/>
            <p:nvPr/>
          </p:nvPicPr>
          <p:blipFill>
            <a:blip r:embed="rId7"/>
            <a:stretch/>
          </p:blipFill>
          <p:spPr>
            <a:xfrm rot="287400">
              <a:off x="7158240" y="4575240"/>
              <a:ext cx="178632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кругленный прямоугольник 21"/>
            <p:cNvSpPr/>
            <p:nvPr/>
          </p:nvSpPr>
          <p:spPr>
            <a:xfrm rot="287400">
              <a:off x="7000560" y="6280560"/>
              <a:ext cx="178632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ХИ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7" descr="cdolls118.gif"/>
          <p:cNvPicPr/>
          <p:nvPr/>
        </p:nvPicPr>
        <p:blipFill>
          <a:blip r:embed="rId1"/>
          <a:stretch/>
        </p:blipFill>
        <p:spPr>
          <a:xfrm>
            <a:off x="285840" y="277920"/>
            <a:ext cx="8572320" cy="6294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857240" y="57312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нц1ила ич1абилеб май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643200" y="2852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лъ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 а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4572000" y="3571920"/>
            <a:ext cx="1142280" cy="499680"/>
            <a:chOff x="4572000" y="3571920"/>
            <a:chExt cx="1142280" cy="499680"/>
          </a:xfrm>
        </p:grpSpPr>
        <p:sp>
          <p:nvSpPr>
            <p:cNvPr id="215" name="Line 22"/>
            <p:cNvSpPr/>
            <p:nvPr/>
          </p:nvSpPr>
          <p:spPr>
            <a:xfrm flipV="1">
              <a:off x="4572000" y="3571920"/>
              <a:ext cx="65268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224680" y="3571920"/>
              <a:ext cx="48960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4572000" y="4857840"/>
            <a:ext cx="533160" cy="380880"/>
            <a:chOff x="4572000" y="4857840"/>
            <a:chExt cx="533160" cy="380880"/>
          </a:xfrm>
        </p:grpSpPr>
        <p:sp>
          <p:nvSpPr>
            <p:cNvPr id="218" name="Line 22"/>
            <p:cNvSpPr/>
            <p:nvPr/>
          </p:nvSpPr>
          <p:spPr>
            <a:xfrm flipV="1">
              <a:off x="4572000" y="4857840"/>
              <a:ext cx="30456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4876560" y="4857840"/>
              <a:ext cx="2286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0" name="Полилиния 22"/>
          <p:cNvSpPr/>
          <p:nvPr/>
        </p:nvSpPr>
        <p:spPr>
          <a:xfrm>
            <a:off x="5853240" y="3925800"/>
            <a:ext cx="785520" cy="714600"/>
          </a:xfrm>
          <a:custGeom>
            <a:avLst/>
            <a:gdLst>
              <a:gd name="textAreaLeft" fmla="*/ 0 w 785520"/>
              <a:gd name="textAreaRight" fmla="*/ 785880 w 7855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олилиния 24"/>
          <p:cNvSpPr/>
          <p:nvPr/>
        </p:nvSpPr>
        <p:spPr>
          <a:xfrm>
            <a:off x="5324400" y="4749840"/>
            <a:ext cx="1285920" cy="85716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Дуга 25"/>
          <p:cNvSpPr/>
          <p:nvPr/>
        </p:nvSpPr>
        <p:spPr>
          <a:xfrm>
            <a:off x="1214280" y="3000240"/>
            <a:ext cx="2714760" cy="12146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214640"/>
              <a:gd name="textAreaBottom" fmla="*/ 659880 h 1214640"/>
            </a:gdLst>
            <a:ahLst/>
            <a:rect l="textAreaLeft" t="textAreaTop" r="textAreaRight" b="textAreaBottom"/>
            <a:pathLst>
              <a:path stroke="0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  <a:lnTo>
                  <a:pt x="1357313" y="607219"/>
                </a:lnTo>
                <a:close/>
              </a:path>
              <a:path fill="none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</a:path>
            </a:pathLst>
          </a:custGeom>
          <a:solidFill>
            <a:srgbClr val="edfad2">
              <a:alpha val="23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3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24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1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6" name="TextBox 20"/>
          <p:cNvSpPr/>
          <p:nvPr/>
        </p:nvSpPr>
        <p:spPr>
          <a:xfrm>
            <a:off x="642960" y="107172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Кьибил – раг1ул бищун к1вар ц1ик1к1араб бут1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5572080" y="2428920"/>
            <a:ext cx="856440" cy="570960"/>
            <a:chOff x="5572080" y="2428920"/>
            <a:chExt cx="856440" cy="570960"/>
          </a:xfrm>
        </p:grpSpPr>
        <p:sp>
          <p:nvSpPr>
            <p:cNvPr id="228" name="Line 22"/>
            <p:cNvSpPr/>
            <p:nvPr/>
          </p:nvSpPr>
          <p:spPr>
            <a:xfrm flipV="1">
              <a:off x="5572080" y="2428920"/>
              <a:ext cx="4892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6061320" y="2428920"/>
              <a:ext cx="3672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4357800" y="2428920"/>
            <a:ext cx="1070640" cy="570960"/>
            <a:chOff x="4357800" y="2428920"/>
            <a:chExt cx="1070640" cy="570960"/>
          </a:xfrm>
        </p:grpSpPr>
        <p:sp>
          <p:nvSpPr>
            <p:cNvPr id="231" name="Line 22"/>
            <p:cNvSpPr/>
            <p:nvPr/>
          </p:nvSpPr>
          <p:spPr>
            <a:xfrm flipV="1">
              <a:off x="4357800" y="2428920"/>
              <a:ext cx="6116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>
              <a:off x="4969440" y="2428920"/>
              <a:ext cx="4590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34" name="Полилиния 22"/>
          <p:cNvSpPr/>
          <p:nvPr/>
        </p:nvSpPr>
        <p:spPr>
          <a:xfrm>
            <a:off x="6680160" y="2752560"/>
            <a:ext cx="785880" cy="714600"/>
          </a:xfrm>
          <a:custGeom>
            <a:avLst/>
            <a:gdLst>
              <a:gd name="textAreaLeft" fmla="*/ 0 w 785880"/>
              <a:gd name="textAreaRight" fmla="*/ 786240 w 7858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Рисунок 9" descr=""/>
          <p:cNvPicPr/>
          <p:nvPr/>
        </p:nvPicPr>
        <p:blipFill>
          <a:blip r:embed="rId3"/>
          <a:stretch/>
        </p:blipFill>
        <p:spPr>
          <a:xfrm>
            <a:off x="992160" y="3608280"/>
            <a:ext cx="2981520" cy="190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8"/>
          <p:cNvSpPr/>
          <p:nvPr/>
        </p:nvSpPr>
        <p:spPr>
          <a:xfrm>
            <a:off x="4791960" y="48578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а  лъ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3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TextBox 27"/>
            <p:cNvSpPr/>
            <p:nvPr/>
          </p:nvSpPr>
          <p:spPr>
            <a:xfrm>
              <a:off x="2825640" y="35244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1" name="TextBox 20"/>
          <p:cNvSpPr/>
          <p:nvPr/>
        </p:nvSpPr>
        <p:spPr>
          <a:xfrm>
            <a:off x="285840" y="94284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44" name="Группа 11"/>
          <p:cNvGrpSpPr/>
          <p:nvPr/>
        </p:nvGrpSpPr>
        <p:grpSpPr>
          <a:xfrm>
            <a:off x="-155160" y="1635120"/>
            <a:ext cx="5095440" cy="5000760"/>
            <a:chOff x="-155160" y="1635120"/>
            <a:chExt cx="5095440" cy="5000760"/>
          </a:xfrm>
        </p:grpSpPr>
        <p:sp>
          <p:nvSpPr>
            <p:cNvPr id="245" name="Трапеция 10"/>
            <p:cNvSpPr/>
            <p:nvPr/>
          </p:nvSpPr>
          <p:spPr>
            <a:xfrm>
              <a:off x="1560240" y="4707000"/>
              <a:ext cx="1357200" cy="1928880"/>
            </a:xfrm>
            <a:custGeom>
              <a:avLst/>
              <a:gdLst>
                <a:gd name="textAreaLeft" fmla="*/ 226080 w 1357200"/>
                <a:gd name="textAreaRight" fmla="*/ 1131120 w 1357200"/>
                <a:gd name="textAreaTop" fmla="*/ 32148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357322" h="1929132">
                  <a:moveTo>
                    <a:pt x="0" y="1929132"/>
                  </a:moveTo>
                  <a:lnTo>
                    <a:pt x="339331" y="0"/>
                  </a:lnTo>
                  <a:lnTo>
                    <a:pt x="1017992" y="0"/>
                  </a:lnTo>
                  <a:lnTo>
                    <a:pt x="1357322" y="1929132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Облако 8"/>
            <p:cNvSpPr/>
            <p:nvPr/>
          </p:nvSpPr>
          <p:spPr>
            <a:xfrm rot="12345600">
              <a:off x="356400" y="2356560"/>
              <a:ext cx="4071960" cy="3286440"/>
            </a:xfrm>
            <a:custGeom>
              <a:avLst/>
              <a:gdLst>
                <a:gd name="textAreaLeft" fmla="*/ 561240 w 4071960"/>
                <a:gd name="textAreaRight" fmla="*/ 3221280 w 4071960"/>
                <a:gd name="textAreaTop" fmla="*/ 496080 h 3286440"/>
                <a:gd name="textAreaBottom" fmla="*/ 2638080 h 328644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5d819"/>
            </a:solidFill>
            <a:ln w="9360">
              <a:solidFill>
                <a:srgbClr val="4b6c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7" name="TextBox 12"/>
          <p:cNvSpPr/>
          <p:nvPr/>
        </p:nvSpPr>
        <p:spPr>
          <a:xfrm rot="21081000">
            <a:off x="783720" y="262044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419040" y="34052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к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Box 14"/>
          <p:cNvSpPr/>
          <p:nvPr/>
        </p:nvSpPr>
        <p:spPr>
          <a:xfrm rot="464400">
            <a:off x="1467000" y="287172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Box 15"/>
          <p:cNvSpPr/>
          <p:nvPr/>
        </p:nvSpPr>
        <p:spPr>
          <a:xfrm rot="21403800">
            <a:off x="262080" y="4019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Box 16"/>
          <p:cNvSpPr/>
          <p:nvPr/>
        </p:nvSpPr>
        <p:spPr>
          <a:xfrm rot="862200">
            <a:off x="2400480" y="36046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1357200" y="464328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хихъанас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3" name="Группа 23"/>
          <p:cNvGrpSpPr/>
          <p:nvPr/>
        </p:nvGrpSpPr>
        <p:grpSpPr>
          <a:xfrm>
            <a:off x="1392120" y="5857920"/>
            <a:ext cx="1714680" cy="758880"/>
            <a:chOff x="1392120" y="5857920"/>
            <a:chExt cx="1714680" cy="758880"/>
          </a:xfrm>
        </p:grpSpPr>
        <p:sp>
          <p:nvSpPr>
            <p:cNvPr id="254" name="TextBox 21"/>
            <p:cNvSpPr/>
            <p:nvPr/>
          </p:nvSpPr>
          <p:spPr>
            <a:xfrm>
              <a:off x="1392120" y="5913360"/>
              <a:ext cx="17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х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Дуга 22"/>
            <p:cNvSpPr/>
            <p:nvPr/>
          </p:nvSpPr>
          <p:spPr>
            <a:xfrm>
              <a:off x="1785600" y="5857920"/>
              <a:ext cx="928800" cy="71460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714600"/>
                <a:gd name="textAreaBottom" fmla="*/ 375120 h 714600"/>
              </a:gdLst>
              <a:ahLst/>
              <a:rect l="textAreaLeft" t="textAreaTop" r="textAreaRight" b="textAreaBottom"/>
              <a:pathLst>
                <a:path stroke="0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  <a:lnTo>
                    <a:pt x="464345" y="356849"/>
                  </a:lnTo>
                  <a:close/>
                </a:path>
                <a:path fill="none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</a:path>
              </a:pathLst>
            </a:custGeom>
            <a:noFill/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56" name="Скругленный прямоугольник 24"/>
          <p:cNvSpPr/>
          <p:nvPr/>
        </p:nvSpPr>
        <p:spPr>
          <a:xfrm>
            <a:off x="5087880" y="3578400"/>
            <a:ext cx="3735360" cy="1571400"/>
          </a:xfrm>
          <a:prstGeom prst="roundRect">
            <a:avLst>
              <a:gd name="adj" fmla="val 16667"/>
            </a:avLst>
          </a:prstGeom>
          <a:solidFill>
            <a:srgbClr val="c6f079"/>
          </a:solidFill>
          <a:ln w="255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Ахирана-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ц1ибил ахириз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5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5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TextBox 27"/>
            <p:cNvSpPr/>
            <p:nvPr/>
          </p:nvSpPr>
          <p:spPr>
            <a:xfrm>
              <a:off x="2857320" y="3492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1" name="TextBox 20"/>
          <p:cNvSpPr/>
          <p:nvPr/>
        </p:nvSpPr>
        <p:spPr>
          <a:xfrm>
            <a:off x="1258920" y="8110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 rot="4365000">
            <a:off x="7149960" y="97956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j0343363"/>
          <p:cNvPicPr/>
          <p:nvPr/>
        </p:nvPicPr>
        <p:blipFill>
          <a:blip r:embed="rId3"/>
          <a:stretch/>
        </p:blipFill>
        <p:spPr>
          <a:xfrm>
            <a:off x="285840" y="3071880"/>
            <a:ext cx="2948040" cy="3571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8"/>
          <p:cNvSpPr/>
          <p:nvPr/>
        </p:nvSpPr>
        <p:spPr>
          <a:xfrm>
            <a:off x="3429000" y="255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1ам,ц1амх1алаб,ц1ах1ила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3484440" y="321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хьанал,   рохь,рохь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3732120" y="384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гъ, рагъизе,  рагъари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3429000" y="44895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ъеч,   къеркьезе,  къече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3149640" y="509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нахъан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чанабилеб,чанил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3429000" y="5987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ран,   ч1аразе,  ч1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Дуга 16"/>
          <p:cNvSpPr/>
          <p:nvPr/>
        </p:nvSpPr>
        <p:spPr>
          <a:xfrm rot="10800000">
            <a:off x="7143480" y="2785680"/>
            <a:ext cx="1500120" cy="42876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Дуга 17"/>
          <p:cNvSpPr/>
          <p:nvPr/>
        </p:nvSpPr>
        <p:spPr>
          <a:xfrm rot="10800000">
            <a:off x="4000320" y="3357360"/>
            <a:ext cx="1857240" cy="5713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71320"/>
              <a:gd name="textAreaBottom" fmla="*/ 323640 h 571320"/>
            </a:gdLst>
            <a:ahLst/>
            <a:rect l="textAreaLeft" t="textAreaTop" r="textAreaRight" b="textAreaBottom"/>
            <a:pathLst>
              <a:path stroke="0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  <a:lnTo>
                  <a:pt x="928688" y="285750"/>
                </a:lnTo>
                <a:close/>
              </a:path>
              <a:path fill="none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Дуга 19"/>
          <p:cNvSpPr/>
          <p:nvPr/>
        </p:nvSpPr>
        <p:spPr>
          <a:xfrm rot="10800000">
            <a:off x="7214760" y="4142880"/>
            <a:ext cx="1785960" cy="42876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428760"/>
              <a:gd name="textAreaBottom" fmla="*/ 250560 h 428760"/>
            </a:gdLst>
            <a:ahLst/>
            <a:rect l="textAreaLeft" t="textAreaTop" r="textAreaRight" b="textAreaBottom"/>
            <a:pathLst>
              <a:path stroke="0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  <a:lnTo>
                  <a:pt x="892969" y="214313"/>
                </a:lnTo>
                <a:close/>
              </a:path>
              <a:path fill="none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Дуга 20"/>
          <p:cNvSpPr/>
          <p:nvPr/>
        </p:nvSpPr>
        <p:spPr>
          <a:xfrm rot="10800000">
            <a:off x="5286240" y="4785840"/>
            <a:ext cx="1500480" cy="4287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Дуга 21"/>
          <p:cNvSpPr/>
          <p:nvPr/>
        </p:nvSpPr>
        <p:spPr>
          <a:xfrm rot="10800000">
            <a:off x="5285880" y="5367240"/>
            <a:ext cx="2071800" cy="35712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57120"/>
              <a:gd name="textAreaBottom" fmla="*/ 219960 h 357120"/>
            </a:gdLst>
            <a:ahLst/>
            <a:rect l="textAreaLeft" t="textAreaTop" r="textAreaRight" b="textAreaBottom"/>
            <a:pathLst>
              <a:path stroke="0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  <a:lnTo>
                  <a:pt x="1035844" y="178594"/>
                </a:lnTo>
                <a:close/>
              </a:path>
              <a:path fill="none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Дуга 22"/>
          <p:cNvSpPr/>
          <p:nvPr/>
        </p:nvSpPr>
        <p:spPr>
          <a:xfrm rot="10800000">
            <a:off x="4000680" y="621504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211680 h 357120"/>
            </a:gdLst>
            <a:ahLst/>
            <a:rect l="textAreaLeft" t="textAreaTop" r="textAreaRight" b="textAreaBottom"/>
            <a:pathLst>
              <a:path stroke="0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  <a:lnTo>
                  <a:pt x="821532" y="178594"/>
                </a:lnTo>
                <a:close/>
              </a:path>
              <a:path fill="none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5920" y="2325240"/>
            <a:ext cx="49579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66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7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3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1" name="TextBox 20"/>
          <p:cNvSpPr/>
          <p:nvPr/>
        </p:nvSpPr>
        <p:spPr>
          <a:xfrm>
            <a:off x="1077840" y="7081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ого кьибилалъул раг1аби бат1и-бат1иял каламалъул бут1абилъун ккезе бегьу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357120" y="2643120"/>
          <a:ext cx="8143920" cy="3033720"/>
        </p:xfrm>
        <a:graphic>
          <a:graphicData uri="http://schemas.openxmlformats.org/drawingml/2006/table">
            <a:tbl>
              <a:tblPr/>
              <a:tblGrid>
                <a:gridCol w="2643120"/>
                <a:gridCol w="1727280"/>
                <a:gridCol w="1887480"/>
                <a:gridCol w="188604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ьуин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ц1ам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ъик1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едметияб ц1ар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ина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лагол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 гьабизе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Дуга 9"/>
          <p:cNvSpPr/>
          <p:nvPr/>
        </p:nvSpPr>
        <p:spPr>
          <a:xfrm>
            <a:off x="328608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Дуга 10"/>
          <p:cNvSpPr/>
          <p:nvPr/>
        </p:nvSpPr>
        <p:spPr>
          <a:xfrm>
            <a:off x="5059440" y="2717640"/>
            <a:ext cx="1143000" cy="571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680"/>
              <a:gd name="textAreaBottom" fmla="*/ 307800 h 57168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Дуга 11"/>
          <p:cNvSpPr/>
          <p:nvPr/>
        </p:nvSpPr>
        <p:spPr>
          <a:xfrm>
            <a:off x="700092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30" descr="F:\моя защита на 1 категорию\АНИМАЦИЯ\Анимация\Цветы\255.gif"/>
          <p:cNvPicPr/>
          <p:nvPr/>
        </p:nvPicPr>
        <p:blipFill>
          <a:blip r:embed="rId3"/>
          <a:stretch/>
        </p:blipFill>
        <p:spPr>
          <a:xfrm>
            <a:off x="3452760" y="34624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1" descr="F:\моя защита на 1 категорию\АНИМАЦИЯ\Анимация\Цветы\100.gif"/>
          <p:cNvPicPr/>
          <p:nvPr/>
        </p:nvPicPr>
        <p:blipFill>
          <a:blip r:embed="rId4"/>
          <a:stretch/>
        </p:blipFill>
        <p:spPr>
          <a:xfrm>
            <a:off x="5357880" y="349560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F:\моя защита на 1 категорию\АНИМАЦИЯ\Анимация\Цветы\255.gif"/>
          <p:cNvPicPr/>
          <p:nvPr/>
        </p:nvPicPr>
        <p:blipFill>
          <a:blip r:embed="rId5"/>
          <a:stretch/>
        </p:blipFill>
        <p:spPr>
          <a:xfrm>
            <a:off x="3286080" y="50007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F:\моя защита на 1 категорию\АНИМАЦИЯ\Анимация\Цветы\100.gif"/>
          <p:cNvPicPr/>
          <p:nvPr/>
        </p:nvPicPr>
        <p:blipFill>
          <a:blip r:embed="rId6"/>
          <a:stretch/>
        </p:blipFill>
        <p:spPr>
          <a:xfrm>
            <a:off x="5286240" y="4964040"/>
            <a:ext cx="720720" cy="67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0" descr="F:\моя защита на 1 категорию\АНИМАЦИЯ\Анимация\Цветы\255.gif"/>
          <p:cNvPicPr/>
          <p:nvPr/>
        </p:nvPicPr>
        <p:blipFill>
          <a:blip r:embed="rId7"/>
          <a:stretch/>
        </p:blipFill>
        <p:spPr>
          <a:xfrm>
            <a:off x="5643720" y="4214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0" descr="F:\моя защита на 1 категорию\АНИМАЦИЯ\Анимация\Цветы\255.gif"/>
          <p:cNvPicPr/>
          <p:nvPr/>
        </p:nvPicPr>
        <p:blipFill>
          <a:blip r:embed="rId8"/>
          <a:stretch/>
        </p:blipFill>
        <p:spPr>
          <a:xfrm>
            <a:off x="7072200" y="350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F:\моя защита на 1 категорию\АНИМАЦИЯ\Анимация\Цветы\255.gif"/>
          <p:cNvPicPr/>
          <p:nvPr/>
        </p:nvPicPr>
        <p:blipFill>
          <a:blip r:embed="rId9"/>
          <a:stretch/>
        </p:blipFill>
        <p:spPr>
          <a:xfrm>
            <a:off x="6715080" y="4929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F:\моя защита на 1 категорию\АНИМАЦИЯ\Анимация\Цветы\100.gif"/>
          <p:cNvPicPr/>
          <p:nvPr/>
        </p:nvPicPr>
        <p:blipFill>
          <a:blip r:embed="rId10"/>
          <a:stretch/>
        </p:blipFill>
        <p:spPr>
          <a:xfrm>
            <a:off x="3857760" y="4214880"/>
            <a:ext cx="720720" cy="679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F:\моя защита на 1 категорию\АНИМАЦИЯ\Анимация\Цветы\100.gif"/>
          <p:cNvPicPr/>
          <p:nvPr/>
        </p:nvPicPr>
        <p:blipFill>
          <a:blip r:embed="rId11"/>
          <a:stretch/>
        </p:blipFill>
        <p:spPr>
          <a:xfrm>
            <a:off x="7500960" y="4214880"/>
            <a:ext cx="7207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P.Mauriat - Love is blue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35_SHum_mor_-_35_SHum_mory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9:51:42Z</dcterms:created>
  <dc:creator>student</dc:creator>
  <dc:description/>
  <dc:language>en-US</dc:language>
  <cp:lastModifiedBy>admin</cp:lastModifiedBy>
  <dcterms:modified xsi:type="dcterms:W3CDTF">2019-02-24T16:38:38Z</dcterms:modified>
  <cp:revision>122</cp:revision>
  <dc:subject/>
  <dc:title>Однокоренные слова и формы одного и того же слова</dc:title>
</cp:coreProperties>
</file>